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91A-73B6-4F69-81F0-B505D79D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10B-0A01-41F0-A385-1A218F7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B42-EBB5-4E33-9453-A896A2A8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D80-B6A7-44CF-8F5F-EE3AD6F2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FA2-4618-474E-A732-D8740D3B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67B-C26A-4C56-9140-AC42A0E4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697-B051-4C90-8CFF-06F87ADE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BF4-BE39-4FFA-8035-A66A1E86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0F2-43D6-45BD-8387-A65047FF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315-0767-4D26-98B7-6F427F4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D69-E320-4FF1-B388-923E185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3A7-CBE6-4169-BFA0-F3862D42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BF47-1FF8-4640-837E-ADA6D786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454120"/>
            <a:ext cx="8280360" cy="23360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6028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7600" y="4878360"/>
            <a:ext cx="8280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800" spc="-1" strike="noStrike">
                <a:solidFill>
                  <a:srgbClr val="333399"/>
                </a:solidFill>
                <a:latin typeface="Book Antiqua"/>
              </a:rPr>
              <a:t>Расчёт СНС методом си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5873760"/>
            <a:ext cx="719280" cy="71928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72120" y="58323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116000" y="184464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79640" y="141300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7480" y="270828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51120" y="270828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19440" y="2708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9072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5436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1944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07784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895400" y="1811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40040" y="26701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0656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906560" y="172656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79640" y="184464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7964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68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11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43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56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700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979640" y="126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116000" y="2924280"/>
            <a:ext cx="172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11600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84328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7964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9640" y="270828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39640" y="141300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1844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11280" y="1413000"/>
            <a:ext cx="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81080" y="28814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940040" y="28861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03680" y="2887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7800" y="137484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120" y="1805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4560" y="26686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4360" y="2133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26692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0840" y="14907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3200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95240" y="1584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60560" y="1012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914480" y="19461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62000" y="2146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92708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54952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309680" y="180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195640" y="1366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2000" y="1407960"/>
            <a:ext cx="5543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 Кинематический анализ и выявление степени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статической неопределимости заданной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1881360"/>
            <a:ext cx="539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) = 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&lt; 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0920" y="2114640"/>
            <a:ext cx="19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 n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= –</a:t>
            </a:r>
            <a:r>
              <a:rPr b="1" i="1" lang="en-US" sz="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64000" y="2114640"/>
            <a:ext cx="30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K–</a:t>
            </a:r>
            <a:r>
              <a:rPr b="1" i="1" lang="en-US" sz="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 – 4 =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22560" y="2530440"/>
            <a:ext cx="4105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Выбор основной системы метода сил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49800" y="3751200"/>
            <a:ext cx="1798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арианты ОСМС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88200" y="5794200"/>
            <a:ext cx="57600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64200" y="5506920"/>
            <a:ext cx="57636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40360" y="6369120"/>
            <a:ext cx="25272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29280" y="5765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53200" y="637056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35680" y="6370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15280" y="638028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79360" y="3716280"/>
            <a:ext cx="407664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.  ОСМС доджна по возможности миним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тличаться от РСНС по характеру свое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2.  Нежелательно удаление линейных связ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собенно внеш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3.  Удалять углов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(вставлять цилиндрические  шарни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целесообразно в узлах.</a:t>
            </a:r>
            <a:r>
              <a:rPr b="0" lang="ru-RU" sz="1400" spc="-1" strike="noStrike">
                <a:solidFill>
                  <a:srgbClr val="009999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4.  Предпочтение следует отдавать ОСМ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с простой структурой (если возможно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9999"/>
                </a:solidFill>
                <a:latin typeface="Arial Narrow"/>
              </a:rPr>
              <a:t>то с главными и второстепенными частя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5.  Если РСНС симметрична, то имеет смыс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ыбирать симметричную ОСМС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218360" y="546408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29280" y="6329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 rot="16301400">
            <a:off x="6821280" y="58752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 rot="12280800">
            <a:off x="7304400" y="539316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V="1" rot="7297800">
            <a:off x="6847920" y="548136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 rot="396600">
            <a:off x="6914520" y="537948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983280" y="5645160"/>
            <a:ext cx="38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058160" y="51148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132000" y="2698920"/>
            <a:ext cx="57610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ОСМС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РСНС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–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ЛС +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СНС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ссчитываемая статически неопределимая систе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С –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лишние свя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е неизвест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61000" y="5911920"/>
            <a:ext cx="539640" cy="181080"/>
          </a:xfrm>
          <a:prstGeom prst="leftRightArrow">
            <a:avLst>
              <a:gd name="adj1" fmla="val 50000"/>
              <a:gd name="adj2" fmla="val 593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79280" y="3225960"/>
            <a:ext cx="3384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екомендации по выб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ациональной ОСМ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262560" y="63691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356520" y="63277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415280" y="63691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508880" y="63277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300560" y="5800680"/>
            <a:ext cx="57636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876920" y="5513400"/>
            <a:ext cx="57600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53080" y="637524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794120" y="57722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48040" y="637704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72040" y="6380280"/>
            <a:ext cx="25236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176720" y="6381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8880" y="63388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42000" y="6337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265640" y="57722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418000" y="54849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 rot="16881000">
            <a:off x="4124160" y="587808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 rot="12280800">
            <a:off x="4353120" y="5674320"/>
            <a:ext cx="28872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 rot="18004800">
            <a:off x="5290200" y="55908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32240" y="5869080"/>
            <a:ext cx="38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045040" y="548784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327640" y="637524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22960" y="63770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416560" y="6337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 rot="871200">
            <a:off x="5114880" y="5337000"/>
            <a:ext cx="28872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756400" y="5583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6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3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2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8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2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116000" y="184464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979640" y="141300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87480" y="270828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851120" y="270828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19440" y="2708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85436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1944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07784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895400" y="1811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40040" y="26701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0656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6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1906560" y="172656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79640" y="184464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97964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124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268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11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43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556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700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79640" y="126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16000" y="2924280"/>
            <a:ext cx="172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11600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4328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7964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270828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39640" y="141300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9640" y="1844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1280" y="1413000"/>
            <a:ext cx="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1081080" y="28814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940040" y="28861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803680" y="2887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77800" y="137484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3120" y="1805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74560" y="26686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14360" y="2133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26692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0840" y="14907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33200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60560" y="1012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914480" y="19461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62000" y="2146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2708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4952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309680" y="180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195640" y="1366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64000" y="1469880"/>
            <a:ext cx="2087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бранная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расчётная модель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795840" y="27795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59480" y="2347920"/>
            <a:ext cx="86328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66960" y="3643200"/>
            <a:ext cx="25272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30600" y="364320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98920" y="3643200"/>
            <a:ext cx="2527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67020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3384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8920" y="3643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5768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575240" y="2746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619520" y="36050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8640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586760" y="266148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59280" y="251928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00720" y="19479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4320" y="28814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59480" y="277020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67160" y="27813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95240" y="1584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60920" y="2752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66416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0852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51808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51360" y="2300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484960" y="23209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514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36400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653000" y="2195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 rot="18004800">
            <a:off x="5393520" y="242532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 rot="871200">
            <a:off x="5199480" y="21420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176800" y="234144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 rot="16881000">
            <a:off x="3611520" y="2865600"/>
            <a:ext cx="28836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 rot="12280800">
            <a:off x="3850200" y="266256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800520" y="2838600"/>
            <a:ext cx="38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732120" y="30830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9756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21964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016520" y="2732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96000" y="1413000"/>
            <a:ext cx="2808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 Narrow"/>
              </a:rPr>
              <a:t>Условия эквивален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 Narrow"/>
              </a:rPr>
              <a:t>РСНС и ОС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 Narrow"/>
              </a:rPr>
              <a:t>(кинематические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867360" y="2662200"/>
            <a:ext cx="584280" cy="284040"/>
          </a:xfrm>
          <a:prstGeom prst="downArrow">
            <a:avLst>
              <a:gd name="adj1" fmla="val 60704"/>
              <a:gd name="adj2" fmla="val 60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651640" y="2997360"/>
            <a:ext cx="31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</a:rPr>
              <a:t>3. Канонические уравнения метода 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12622800">
            <a:off x="2987280" y="1987200"/>
            <a:ext cx="863640" cy="217440"/>
          </a:xfrm>
          <a:prstGeom prst="leftRightArrow">
            <a:avLst>
              <a:gd name="adj1" fmla="val 50000"/>
              <a:gd name="adj2" fmla="val 79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6720" y="3994200"/>
            <a:ext cx="5543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Единичные состоя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90000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2864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74720" y="587700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04800" y="5877000"/>
            <a:ext cx="25272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24080" y="587700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779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080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2408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86508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59372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1156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547640" y="5119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11560" y="4762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6786720" y="2082960"/>
                <a:ext cx="763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6218280" y="3429000"/>
                <a:ext cx="2112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865080" y="51228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90640" y="5157720"/>
            <a:ext cx="71892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61928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65000" y="5877000"/>
            <a:ext cx="2527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95440" y="587700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214720" y="5877000"/>
            <a:ext cx="25236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5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49400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21472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5572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84360" y="5838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30184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720800" y="5383080"/>
            <a:ext cx="50328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61928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440" y="5149800"/>
            <a:ext cx="742680" cy="679680"/>
          </a:xfrm>
          <a:custGeom>
            <a:avLst/>
            <a:gdLst/>
            <a:ahLst/>
            <a:rect l="l" t="t" r="r" b="b"/>
            <a:pathLst>
              <a:path w="468" h="428">
                <a:moveTo>
                  <a:pt x="128" y="428"/>
                </a:moveTo>
                <a:cubicBezTo>
                  <a:pt x="123" y="403"/>
                  <a:pt x="108" y="324"/>
                  <a:pt x="96" y="276"/>
                </a:cubicBezTo>
                <a:cubicBezTo>
                  <a:pt x="84" y="228"/>
                  <a:pt x="72" y="182"/>
                  <a:pt x="56" y="136"/>
                </a:cubicBezTo>
                <a:cubicBezTo>
                  <a:pt x="40" y="90"/>
                  <a:pt x="40" y="92"/>
                  <a:pt x="0" y="0"/>
                </a:cubicBezTo>
                <a:cubicBezTo>
                  <a:pt x="52" y="16"/>
                  <a:pt x="74" y="19"/>
                  <a:pt x="116" y="24"/>
                </a:cubicBezTo>
                <a:cubicBezTo>
                  <a:pt x="158" y="29"/>
                  <a:pt x="193" y="35"/>
                  <a:pt x="252" y="32"/>
                </a:cubicBezTo>
                <a:cubicBezTo>
                  <a:pt x="311" y="29"/>
                  <a:pt x="423" y="10"/>
                  <a:pt x="468" y="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368360" y="4756320"/>
            <a:ext cx="749520" cy="1085760"/>
          </a:xfrm>
          <a:custGeom>
            <a:avLst/>
            <a:gdLst/>
            <a:ahLst/>
            <a:rect l="l" t="t" r="r" b="b"/>
            <a:pathLst>
              <a:path w="472" h="684">
                <a:moveTo>
                  <a:pt x="148" y="684"/>
                </a:moveTo>
                <a:cubicBezTo>
                  <a:pt x="139" y="651"/>
                  <a:pt x="108" y="545"/>
                  <a:pt x="92" y="484"/>
                </a:cubicBezTo>
                <a:cubicBezTo>
                  <a:pt x="76" y="423"/>
                  <a:pt x="64" y="373"/>
                  <a:pt x="52" y="320"/>
                </a:cubicBezTo>
                <a:cubicBezTo>
                  <a:pt x="40" y="267"/>
                  <a:pt x="29" y="213"/>
                  <a:pt x="20" y="164"/>
                </a:cubicBezTo>
                <a:cubicBezTo>
                  <a:pt x="11" y="115"/>
                  <a:pt x="8" y="92"/>
                  <a:pt x="0" y="24"/>
                </a:cubicBezTo>
                <a:cubicBezTo>
                  <a:pt x="80" y="12"/>
                  <a:pt x="153" y="1"/>
                  <a:pt x="232" y="0"/>
                </a:cubicBezTo>
                <a:cubicBezTo>
                  <a:pt x="311" y="0"/>
                  <a:pt x="422" y="19"/>
                  <a:pt x="472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341360" y="51195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108160" y="4829040"/>
            <a:ext cx="21600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066760" y="47624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49440" y="5124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81120" y="520056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20720" y="5176800"/>
            <a:ext cx="30636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 rot="12280800">
            <a:off x="743400" y="501372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97000" y="482616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87480" y="5019840"/>
            <a:ext cx="1116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 rot="5400000">
            <a:off x="2031840" y="49723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1989000" y="4790520"/>
            <a:ext cx="7920" cy="1155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1989000" y="46324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 rot="16200000">
            <a:off x="2201760" y="497412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6320" y="5195880"/>
            <a:ext cx="154080" cy="32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 rot="15777000">
            <a:off x="545040" y="5238000"/>
            <a:ext cx="28836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987480" y="523080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 flipV="1" rot="16200000">
            <a:off x="735120" y="5408640"/>
            <a:ext cx="54000" cy="162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44680" y="54514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49320" y="5140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914480" y="44038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11240" y="50007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11280" y="597852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5920" y="474660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ru-RU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78280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51144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782800" y="5157720"/>
            <a:ext cx="28728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14800" y="4797360"/>
            <a:ext cx="28872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782800" y="515772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5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03520" y="4508640"/>
            <a:ext cx="719280" cy="28872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86080" y="43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09888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27520" y="49212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595600" y="53053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656160" y="5415120"/>
            <a:ext cx="45072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46440" y="54212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6972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259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0" y="5877000"/>
            <a:ext cx="25236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302080" y="5877000"/>
            <a:ext cx="25272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6021360" y="5877000"/>
            <a:ext cx="25236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752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0532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0213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6236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39100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884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345280" y="5119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097680" y="47592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653000" y="51325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6972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4259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877000"/>
            <a:ext cx="25236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02080" y="5877000"/>
            <a:ext cx="25272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021360" y="5877000"/>
            <a:ext cx="25236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5705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3006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0213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6236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39100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10884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48172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556240" y="5386320"/>
            <a:ext cx="53964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706640" y="5183280"/>
            <a:ext cx="14292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871880" y="515772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527800" y="5116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26160" y="51181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435640" y="4788000"/>
            <a:ext cx="933480" cy="1054080"/>
          </a:xfrm>
          <a:custGeom>
            <a:avLst/>
            <a:gdLst/>
            <a:ahLst/>
            <a:rect l="l" t="t" r="r" b="b"/>
            <a:pathLst>
              <a:path w="588" h="664">
                <a:moveTo>
                  <a:pt x="0" y="656"/>
                </a:moveTo>
                <a:cubicBezTo>
                  <a:pt x="10" y="623"/>
                  <a:pt x="39" y="539"/>
                  <a:pt x="60" y="460"/>
                </a:cubicBezTo>
                <a:cubicBezTo>
                  <a:pt x="81" y="381"/>
                  <a:pt x="109" y="259"/>
                  <a:pt x="124" y="184"/>
                </a:cubicBezTo>
                <a:cubicBezTo>
                  <a:pt x="139" y="109"/>
                  <a:pt x="144" y="72"/>
                  <a:pt x="152" y="8"/>
                </a:cubicBezTo>
                <a:cubicBezTo>
                  <a:pt x="220" y="24"/>
                  <a:pt x="247" y="24"/>
                  <a:pt x="288" y="28"/>
                </a:cubicBezTo>
                <a:cubicBezTo>
                  <a:pt x="329" y="32"/>
                  <a:pt x="350" y="37"/>
                  <a:pt x="400" y="32"/>
                </a:cubicBezTo>
                <a:cubicBezTo>
                  <a:pt x="450" y="27"/>
                  <a:pt x="496" y="28"/>
                  <a:pt x="588" y="0"/>
                </a:cubicBezTo>
                <a:cubicBezTo>
                  <a:pt x="548" y="100"/>
                  <a:pt x="532" y="179"/>
                  <a:pt x="512" y="264"/>
                </a:cubicBezTo>
                <a:cubicBezTo>
                  <a:pt x="492" y="349"/>
                  <a:pt x="478" y="445"/>
                  <a:pt x="468" y="512"/>
                </a:cubicBezTo>
                <a:cubicBezTo>
                  <a:pt x="458" y="579"/>
                  <a:pt x="455" y="632"/>
                  <a:pt x="452" y="6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338880" y="47530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 rot="21559200">
            <a:off x="6019560" y="462060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275520" y="450216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865760" y="519120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372360" y="4830840"/>
            <a:ext cx="0" cy="398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6208560" y="4803840"/>
            <a:ext cx="144720" cy="398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 rot="18480600">
            <a:off x="6199200" y="486072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5975280" y="4808520"/>
            <a:ext cx="3650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 rot="5400000">
            <a:off x="4749480" y="53089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 flipV="1" rot="16200000">
            <a:off x="4914720" y="532332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343200">
            <a:off x="6103800" y="5065560"/>
            <a:ext cx="135000" cy="63720"/>
          </a:xfrm>
          <a:custGeom>
            <a:avLst/>
            <a:gdLst/>
            <a:ahLst/>
            <a:rect l="l" t="t" r="r" b="b"/>
            <a:pathLst>
              <a:path w="85" h="40">
                <a:moveTo>
                  <a:pt x="0" y="0"/>
                </a:moveTo>
                <a:cubicBezTo>
                  <a:pt x="5" y="4"/>
                  <a:pt x="18" y="17"/>
                  <a:pt x="32" y="24"/>
                </a:cubicBezTo>
                <a:cubicBezTo>
                  <a:pt x="46" y="31"/>
                  <a:pt x="74" y="37"/>
                  <a:pt x="85" y="4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 flipV="1" rot="16200000">
            <a:off x="6426000" y="510588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008760" y="4873680"/>
            <a:ext cx="57240" cy="119160"/>
          </a:xfrm>
          <a:custGeom>
            <a:avLst/>
            <a:gdLst/>
            <a:ahLst/>
            <a:rect l="l" t="t" r="r" b="b"/>
            <a:pathLst>
              <a:path w="36" h="75">
                <a:moveTo>
                  <a:pt x="36" y="75"/>
                </a:moveTo>
                <a:cubicBezTo>
                  <a:pt x="33" y="71"/>
                  <a:pt x="24" y="64"/>
                  <a:pt x="18" y="51"/>
                </a:cubicBezTo>
                <a:cubicBezTo>
                  <a:pt x="12" y="38"/>
                  <a:pt x="4" y="11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002280" y="46576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168960" y="51354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743440" y="44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716360" y="53420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964040" y="5006880"/>
            <a:ext cx="11160" cy="1447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4970520" y="516564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788000" y="472428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427640" y="597528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960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5247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524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524720" y="4795920"/>
            <a:ext cx="719280" cy="288720"/>
          </a:xfrm>
          <a:prstGeom prst="rect">
            <a:avLst/>
          </a:prstGeom>
          <a:blipFill rotWithShape="0">
            <a:blip r:embed="rId24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956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25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316640" y="4925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90000" y="4923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677000" y="456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84548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639200" y="5425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659720" y="542592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4000" y="1197000"/>
            <a:ext cx="2665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Вычисление коэффициент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х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 flipV="1">
            <a:off x="271800" y="1823400"/>
            <a:ext cx="360360" cy="2160360"/>
          </a:xfrm>
          <a:custGeom>
            <a:avLst/>
            <a:gdLst>
              <a:gd name="textAreaLeft" fmla="*/ 48240 w 360360"/>
              <a:gd name="textAreaRight" fmla="*/ 312120 w 360360"/>
              <a:gd name="textAreaTop" fmla="*/ 437400 h 2160360"/>
              <a:gd name="textAreaBottom" fmla="*/ 15069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6" stAng="-5400000" swAng="5400000"/>
                <a:lnTo>
                  <a:pt x="21600" y="10695"/>
                </a:lnTo>
                <a:arcTo wR="21600" hR="8746" stAng="0" swAng="2183055"/>
                <a:lnTo>
                  <a:pt x="10402" y="20519"/>
                </a:lnTo>
                <a:lnTo>
                  <a:pt x="0" y="18466"/>
                </a:lnTo>
                <a:lnTo>
                  <a:pt x="10402" y="14250"/>
                </a:lnTo>
                <a:lnTo>
                  <a:pt x="10402" y="16410"/>
                </a:lnTo>
                <a:arcTo wR="21600" hR="8746" stAng="2183055" swAng="-2027094"/>
                <a:lnTo>
                  <a:pt x="21465" y="9720"/>
                </a:lnTo>
                <a:arcTo wR="21600" hR="8746" stAng="-155961" swAng="-5244039"/>
                <a:close/>
              </a:path>
              <a:path fill="darkenLess" w="21600" h="21600">
                <a:moveTo>
                  <a:pt x="0" y="0"/>
                </a:moveTo>
                <a:arcTo wR="21600" hR="8746" stAng="-5400000" swAng="5400000"/>
                <a:lnTo>
                  <a:pt x="21600" y="10695"/>
                </a:lnTo>
                <a:arcTo wR="21600" hR="8746" stAng="0" swAng="-155961"/>
                <a:lnTo>
                  <a:pt x="21465" y="9720"/>
                </a:lnTo>
                <a:arcTo wR="21600" hR="8746" stAng="-155961" swAng="-524403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12800" y="1852560"/>
                <a:ext cx="1963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84360" y="2486160"/>
                <a:ext cx="20048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324000" y="2971800"/>
                <a:ext cx="2512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692280" y="3494160"/>
                <a:ext cx="2019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0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7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0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3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9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1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6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9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2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8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1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4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0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6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5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8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4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0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9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0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1" dur="8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2" dur="8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3" dur="8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440"/>
                            </p:stCondLst>
                            <p:childTnLst>
                              <p:par>
                                <p:cTn id="22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7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0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6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9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2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4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7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0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5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8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1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4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7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3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6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9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2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5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1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9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8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1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0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6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4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7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0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0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3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0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6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2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3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0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0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5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0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5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0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5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0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3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9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5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1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4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7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0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3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6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9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6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9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2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5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1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4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7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0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3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9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5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8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1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4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7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0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3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6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2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5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7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0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6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7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0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7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8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9" dur="8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6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1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1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1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6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6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1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6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9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0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5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4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0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3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6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9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2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5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8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1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4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7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6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9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1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4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7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8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6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ожение 1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числение единичных перемещений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374840" y="2492280"/>
            <a:ext cx="71892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103480" y="2131920"/>
            <a:ext cx="71892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374840" y="2492280"/>
            <a:ext cx="28728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06480" y="2131920"/>
            <a:ext cx="28908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374840" y="249228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95560" y="1843200"/>
            <a:ext cx="718920" cy="28872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78120" y="1700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690560" y="18874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519200" y="22557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187280" y="2639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247840" y="2749680"/>
            <a:ext cx="45108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238480" y="27558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058080" y="2492280"/>
            <a:ext cx="71892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786720" y="2131920"/>
            <a:ext cx="71892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786720" y="213192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786720" y="2130480"/>
            <a:ext cx="718920" cy="28872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7218360" y="213192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78640" y="22604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451640" y="22575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9000" y="18972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107120" y="19000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900840" y="27608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921360" y="2760840"/>
            <a:ext cx="45108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108240" y="2155680"/>
                <a:ext cx="255600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009800" y="3736800"/>
                <a:ext cx="6959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684360" y="4551480"/>
                <a:ext cx="77803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"/>
              <p:cNvSpPr txBox="1"/>
              <p:nvPr/>
            </p:nvSpPr>
            <p:spPr>
              <a:xfrm>
                <a:off x="2048040" y="5535720"/>
                <a:ext cx="49021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⋅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fill="hold">
                      <p:stCondLst>
                        <p:cond delay="0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500"/>
                            </p:stCondLst>
                            <p:childTnLst>
                              <p:par>
                                <p:cTn id="29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9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6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7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18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4" dur="2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18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795840" y="3787920"/>
            <a:ext cx="1726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79584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52276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5948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032280" y="365616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032280" y="236052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032280" y="279252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103560" y="236052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760920" y="374508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619520" y="37497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479920" y="37508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070080" y="23223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065400" y="27525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067200" y="3616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06640" y="30812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46760" y="3537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13120" y="2438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011480" y="35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987640" y="1558800"/>
            <a:ext cx="3168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«Грузовое» 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795840" y="27795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659480" y="2347920"/>
            <a:ext cx="86328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666960" y="3643200"/>
            <a:ext cx="25272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30600" y="36432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398920" y="3643200"/>
            <a:ext cx="25272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67020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384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398920" y="3643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75768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575240" y="2746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19520" y="36050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48640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4586760" y="266148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059280" y="251928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19479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94320" y="28814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659480" y="277020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467160" y="27813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760920" y="2752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66416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80852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51808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851360" y="2300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484960" y="23209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9514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07672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21964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6400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53000" y="2195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732120" y="30830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59756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21964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16520" y="2732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651640" y="2997360"/>
            <a:ext cx="31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</a:rPr>
              <a:t>3. Канонические уравнения метода 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90000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62864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720" y="587700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504800" y="5877000"/>
            <a:ext cx="25272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224080" y="587700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779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5080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2408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6508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59372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31156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730520" y="5383080"/>
            <a:ext cx="50292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62864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5149800"/>
            <a:ext cx="743040" cy="679680"/>
          </a:xfrm>
          <a:custGeom>
            <a:avLst/>
            <a:gdLst/>
            <a:ahLst/>
            <a:rect l="l" t="t" r="r" b="b"/>
            <a:pathLst>
              <a:path w="468" h="428">
                <a:moveTo>
                  <a:pt x="128" y="428"/>
                </a:moveTo>
                <a:cubicBezTo>
                  <a:pt x="123" y="403"/>
                  <a:pt x="108" y="324"/>
                  <a:pt x="96" y="276"/>
                </a:cubicBezTo>
                <a:cubicBezTo>
                  <a:pt x="84" y="228"/>
                  <a:pt x="72" y="182"/>
                  <a:pt x="56" y="136"/>
                </a:cubicBezTo>
                <a:cubicBezTo>
                  <a:pt x="40" y="90"/>
                  <a:pt x="40" y="92"/>
                  <a:pt x="0" y="0"/>
                </a:cubicBezTo>
                <a:cubicBezTo>
                  <a:pt x="52" y="16"/>
                  <a:pt x="74" y="19"/>
                  <a:pt x="116" y="24"/>
                </a:cubicBezTo>
                <a:cubicBezTo>
                  <a:pt x="158" y="29"/>
                  <a:pt x="193" y="35"/>
                  <a:pt x="252" y="32"/>
                </a:cubicBezTo>
                <a:cubicBezTo>
                  <a:pt x="311" y="29"/>
                  <a:pt x="423" y="10"/>
                  <a:pt x="468" y="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78080" y="4756320"/>
            <a:ext cx="749160" cy="1085760"/>
          </a:xfrm>
          <a:custGeom>
            <a:avLst/>
            <a:gdLst/>
            <a:ahLst/>
            <a:rect l="l" t="t" r="r" b="b"/>
            <a:pathLst>
              <a:path w="472" h="684">
                <a:moveTo>
                  <a:pt x="148" y="684"/>
                </a:moveTo>
                <a:cubicBezTo>
                  <a:pt x="139" y="651"/>
                  <a:pt x="108" y="545"/>
                  <a:pt x="92" y="484"/>
                </a:cubicBezTo>
                <a:cubicBezTo>
                  <a:pt x="76" y="423"/>
                  <a:pt x="64" y="373"/>
                  <a:pt x="52" y="320"/>
                </a:cubicBezTo>
                <a:cubicBezTo>
                  <a:pt x="40" y="267"/>
                  <a:pt x="29" y="213"/>
                  <a:pt x="20" y="164"/>
                </a:cubicBezTo>
                <a:cubicBezTo>
                  <a:pt x="11" y="115"/>
                  <a:pt x="8" y="92"/>
                  <a:pt x="0" y="24"/>
                </a:cubicBezTo>
                <a:cubicBezTo>
                  <a:pt x="80" y="12"/>
                  <a:pt x="153" y="1"/>
                  <a:pt x="232" y="0"/>
                </a:cubicBezTo>
                <a:cubicBezTo>
                  <a:pt x="311" y="0"/>
                  <a:pt x="422" y="19"/>
                  <a:pt x="472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51080" y="5119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7880" y="4829040"/>
            <a:ext cx="21564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76480" y="4762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58800" y="5124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96720" y="3994200"/>
            <a:ext cx="5543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Единичные состоя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0480" y="51958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36560" y="5176800"/>
            <a:ext cx="30636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 rot="12280800">
            <a:off x="752760" y="501372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104920" y="48308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996840" y="5019840"/>
            <a:ext cx="1116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 rot="5400000">
            <a:off x="2041200" y="49723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1998720" y="4790520"/>
            <a:ext cx="7920" cy="1155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1998720" y="46324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 rot="16200000">
            <a:off x="2212200" y="4974480"/>
            <a:ext cx="7920" cy="11088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16040" y="5195880"/>
            <a:ext cx="154080" cy="32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 rot="15777000">
            <a:off x="555120" y="523836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96840" y="523080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 flipV="1" rot="16200000">
            <a:off x="744480" y="5408640"/>
            <a:ext cx="54000" cy="162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54040" y="54514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958680" y="5140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935000" y="44226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9440" y="597852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95280" y="474660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ru-RU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77164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0028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771640" y="5157720"/>
            <a:ext cx="28764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203640" y="4797360"/>
            <a:ext cx="28872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771640" y="515772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9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492360" y="4508640"/>
            <a:ext cx="719280" cy="28872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274920" y="43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08772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916360" y="49212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584440" y="53053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645000" y="5415120"/>
            <a:ext cx="45072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635280" y="54212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972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4259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72000" y="587700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302080" y="5877000"/>
            <a:ext cx="25272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021360" y="587700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5752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30532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213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66236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39100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10884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8172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56240" y="5386320"/>
            <a:ext cx="53964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4706640" y="5183280"/>
            <a:ext cx="14292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871880" y="515772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527800" y="5116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826160" y="51181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435640" y="4788000"/>
            <a:ext cx="933480" cy="1054080"/>
          </a:xfrm>
          <a:custGeom>
            <a:avLst/>
            <a:gdLst/>
            <a:ahLst/>
            <a:rect l="l" t="t" r="r" b="b"/>
            <a:pathLst>
              <a:path w="588" h="664">
                <a:moveTo>
                  <a:pt x="0" y="656"/>
                </a:moveTo>
                <a:cubicBezTo>
                  <a:pt x="10" y="623"/>
                  <a:pt x="39" y="539"/>
                  <a:pt x="60" y="460"/>
                </a:cubicBezTo>
                <a:cubicBezTo>
                  <a:pt x="81" y="381"/>
                  <a:pt x="109" y="259"/>
                  <a:pt x="124" y="184"/>
                </a:cubicBezTo>
                <a:cubicBezTo>
                  <a:pt x="139" y="109"/>
                  <a:pt x="144" y="72"/>
                  <a:pt x="152" y="8"/>
                </a:cubicBezTo>
                <a:cubicBezTo>
                  <a:pt x="220" y="24"/>
                  <a:pt x="247" y="24"/>
                  <a:pt x="288" y="28"/>
                </a:cubicBezTo>
                <a:cubicBezTo>
                  <a:pt x="329" y="32"/>
                  <a:pt x="350" y="37"/>
                  <a:pt x="400" y="32"/>
                </a:cubicBezTo>
                <a:cubicBezTo>
                  <a:pt x="450" y="27"/>
                  <a:pt x="496" y="28"/>
                  <a:pt x="588" y="0"/>
                </a:cubicBezTo>
                <a:cubicBezTo>
                  <a:pt x="548" y="100"/>
                  <a:pt x="532" y="179"/>
                  <a:pt x="512" y="264"/>
                </a:cubicBezTo>
                <a:cubicBezTo>
                  <a:pt x="492" y="349"/>
                  <a:pt x="478" y="445"/>
                  <a:pt x="468" y="512"/>
                </a:cubicBezTo>
                <a:cubicBezTo>
                  <a:pt x="458" y="579"/>
                  <a:pt x="455" y="632"/>
                  <a:pt x="452" y="6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338880" y="47530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V="1" rot="21559200">
            <a:off x="6019560" y="462060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275520" y="450216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865760" y="519120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372360" y="4830840"/>
            <a:ext cx="0" cy="398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6208560" y="4803840"/>
            <a:ext cx="144720" cy="398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 rot="18480600">
            <a:off x="6199200" y="486072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5975280" y="4808520"/>
            <a:ext cx="3650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 rot="5400000">
            <a:off x="4749480" y="53089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 rot="16200000">
            <a:off x="4914720" y="532332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343200">
            <a:off x="6103800" y="5065560"/>
            <a:ext cx="135000" cy="63720"/>
          </a:xfrm>
          <a:custGeom>
            <a:avLst/>
            <a:gdLst/>
            <a:ahLst/>
            <a:rect l="l" t="t" r="r" b="b"/>
            <a:pathLst>
              <a:path w="85" h="40">
                <a:moveTo>
                  <a:pt x="0" y="0"/>
                </a:moveTo>
                <a:cubicBezTo>
                  <a:pt x="5" y="4"/>
                  <a:pt x="18" y="17"/>
                  <a:pt x="32" y="24"/>
                </a:cubicBezTo>
                <a:cubicBezTo>
                  <a:pt x="46" y="31"/>
                  <a:pt x="74" y="37"/>
                  <a:pt x="85" y="4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 rot="16200000">
            <a:off x="6424560" y="509976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08760" y="4873680"/>
            <a:ext cx="57240" cy="119160"/>
          </a:xfrm>
          <a:custGeom>
            <a:avLst/>
            <a:gdLst/>
            <a:ahLst/>
            <a:rect l="l" t="t" r="r" b="b"/>
            <a:pathLst>
              <a:path w="36" h="75">
                <a:moveTo>
                  <a:pt x="36" y="75"/>
                </a:moveTo>
                <a:cubicBezTo>
                  <a:pt x="33" y="71"/>
                  <a:pt x="24" y="64"/>
                  <a:pt x="18" y="51"/>
                </a:cubicBezTo>
                <a:cubicBezTo>
                  <a:pt x="12" y="38"/>
                  <a:pt x="4" y="11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6002280" y="46576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920960" y="50007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168960" y="51354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743440" y="44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716360" y="537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964040" y="5006880"/>
            <a:ext cx="11160" cy="1447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970520" y="516564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788000" y="472428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427640" y="597528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7960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75247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24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24720" y="4795920"/>
            <a:ext cx="719280" cy="288720"/>
          </a:xfrm>
          <a:prstGeom prst="rect">
            <a:avLst/>
          </a:prstGeom>
          <a:blipFill rotWithShape="0">
            <a:blip r:embed="rId15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956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6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316640" y="4925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190000" y="4923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677000" y="456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4548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639200" y="5425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659720" y="542592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24000" y="1197000"/>
            <a:ext cx="2665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Вычисление коэффициент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х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712800" y="1852560"/>
                <a:ext cx="1963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684360" y="2486160"/>
                <a:ext cx="20048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324000" y="2971800"/>
                <a:ext cx="2512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84360" y="3494160"/>
                <a:ext cx="2020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3989520" y="206064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970440" y="207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3429000"/>
                <a:ext cx="2112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7" dur="indefinite" restart="never" nodeType="tmRoot">
          <p:childTnLst>
            <p:seq>
              <p:cTn id="2978" dur="indefinite" nodeType="mainSeq">
                <p:childTnLst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795840" y="3787920"/>
            <a:ext cx="1726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79584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52276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65948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032280" y="365616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032280" y="236052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32280" y="279252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103560" y="236052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3760920" y="374508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619520" y="37497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5479920" y="37508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070080" y="23223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065400" y="27525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067200" y="3616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906640" y="30812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46760" y="3537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913120" y="2438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011480" y="35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95840" y="27795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659480" y="2347920"/>
            <a:ext cx="86328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666960" y="3643200"/>
            <a:ext cx="25272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530600" y="36432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398920" y="3643200"/>
            <a:ext cx="25272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67020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53384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398920" y="3643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75768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619520" y="36050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48640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4813920" y="266148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798720" y="2519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219640" y="1947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22920" y="28814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886280" y="2770200"/>
            <a:ext cx="71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70188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97376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511812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82768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148360" y="23623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792760" y="2311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26104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8632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52924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67360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962600" y="2195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851280" y="30830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71636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3872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230720" y="2732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90000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62864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74720" y="587700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504800" y="5877000"/>
            <a:ext cx="25272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224080" y="587700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7779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5080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22408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86508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59372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31156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730520" y="5383080"/>
            <a:ext cx="50292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62864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85800" y="5149800"/>
            <a:ext cx="743040" cy="679680"/>
          </a:xfrm>
          <a:custGeom>
            <a:avLst/>
            <a:gdLst/>
            <a:ahLst/>
            <a:rect l="l" t="t" r="r" b="b"/>
            <a:pathLst>
              <a:path w="468" h="428">
                <a:moveTo>
                  <a:pt x="128" y="428"/>
                </a:moveTo>
                <a:cubicBezTo>
                  <a:pt x="123" y="403"/>
                  <a:pt x="108" y="324"/>
                  <a:pt x="96" y="276"/>
                </a:cubicBezTo>
                <a:cubicBezTo>
                  <a:pt x="84" y="228"/>
                  <a:pt x="72" y="182"/>
                  <a:pt x="56" y="136"/>
                </a:cubicBezTo>
                <a:cubicBezTo>
                  <a:pt x="40" y="90"/>
                  <a:pt x="40" y="92"/>
                  <a:pt x="0" y="0"/>
                </a:cubicBezTo>
                <a:cubicBezTo>
                  <a:pt x="52" y="16"/>
                  <a:pt x="74" y="19"/>
                  <a:pt x="116" y="24"/>
                </a:cubicBezTo>
                <a:cubicBezTo>
                  <a:pt x="158" y="29"/>
                  <a:pt x="193" y="35"/>
                  <a:pt x="252" y="32"/>
                </a:cubicBezTo>
                <a:cubicBezTo>
                  <a:pt x="311" y="29"/>
                  <a:pt x="423" y="10"/>
                  <a:pt x="468" y="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378080" y="4756320"/>
            <a:ext cx="749160" cy="1085760"/>
          </a:xfrm>
          <a:custGeom>
            <a:avLst/>
            <a:gdLst/>
            <a:ahLst/>
            <a:rect l="l" t="t" r="r" b="b"/>
            <a:pathLst>
              <a:path w="472" h="684">
                <a:moveTo>
                  <a:pt x="148" y="684"/>
                </a:moveTo>
                <a:cubicBezTo>
                  <a:pt x="139" y="651"/>
                  <a:pt x="108" y="545"/>
                  <a:pt x="92" y="484"/>
                </a:cubicBezTo>
                <a:cubicBezTo>
                  <a:pt x="76" y="423"/>
                  <a:pt x="64" y="373"/>
                  <a:pt x="52" y="320"/>
                </a:cubicBezTo>
                <a:cubicBezTo>
                  <a:pt x="40" y="267"/>
                  <a:pt x="29" y="213"/>
                  <a:pt x="20" y="164"/>
                </a:cubicBezTo>
                <a:cubicBezTo>
                  <a:pt x="11" y="115"/>
                  <a:pt x="8" y="92"/>
                  <a:pt x="0" y="24"/>
                </a:cubicBezTo>
                <a:cubicBezTo>
                  <a:pt x="80" y="12"/>
                  <a:pt x="153" y="1"/>
                  <a:pt x="232" y="0"/>
                </a:cubicBezTo>
                <a:cubicBezTo>
                  <a:pt x="311" y="0"/>
                  <a:pt x="422" y="19"/>
                  <a:pt x="472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351080" y="5119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117880" y="4829040"/>
            <a:ext cx="21564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076480" y="4762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58800" y="5124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96720" y="3994200"/>
            <a:ext cx="5543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Единичные состоя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90480" y="51958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36560" y="5176800"/>
            <a:ext cx="30636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 rot="12280800">
            <a:off x="752760" y="501372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04920" y="48308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996840" y="5019840"/>
            <a:ext cx="1116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 rot="5400000">
            <a:off x="2041200" y="49723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1998720" y="4790520"/>
            <a:ext cx="7920" cy="1155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8720" y="46324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 flipV="1" rot="16200000">
            <a:off x="2212200" y="4974480"/>
            <a:ext cx="7920" cy="11088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16040" y="5195880"/>
            <a:ext cx="154080" cy="32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 rot="15777000">
            <a:off x="555120" y="523836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996840" y="523080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 rot="16200000">
            <a:off x="744480" y="5408640"/>
            <a:ext cx="54000" cy="162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4040" y="54514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58680" y="5140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935000" y="44226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49440" y="597852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95280" y="474660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ru-RU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77164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50028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771640" y="5157720"/>
            <a:ext cx="28764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203640" y="4797360"/>
            <a:ext cx="28872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771640" y="515772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9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92360" y="4508640"/>
            <a:ext cx="719280" cy="28872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274920" y="43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08772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916360" y="49212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584440" y="53053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645000" y="5415120"/>
            <a:ext cx="45072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635280" y="54212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6972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4259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572000" y="587700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302080" y="5877000"/>
            <a:ext cx="25272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021360" y="5877000"/>
            <a:ext cx="25236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5752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30532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0213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66236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39100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10884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48172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556240" y="5386320"/>
            <a:ext cx="53964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4706640" y="5183280"/>
            <a:ext cx="14292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71880" y="5157720"/>
            <a:ext cx="64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527800" y="5116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826160" y="51181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435640" y="4788000"/>
            <a:ext cx="933480" cy="1054080"/>
          </a:xfrm>
          <a:custGeom>
            <a:avLst/>
            <a:gdLst/>
            <a:ahLst/>
            <a:rect l="l" t="t" r="r" b="b"/>
            <a:pathLst>
              <a:path w="588" h="664">
                <a:moveTo>
                  <a:pt x="0" y="656"/>
                </a:moveTo>
                <a:cubicBezTo>
                  <a:pt x="10" y="623"/>
                  <a:pt x="39" y="539"/>
                  <a:pt x="60" y="460"/>
                </a:cubicBezTo>
                <a:cubicBezTo>
                  <a:pt x="81" y="381"/>
                  <a:pt x="109" y="259"/>
                  <a:pt x="124" y="184"/>
                </a:cubicBezTo>
                <a:cubicBezTo>
                  <a:pt x="139" y="109"/>
                  <a:pt x="144" y="72"/>
                  <a:pt x="152" y="8"/>
                </a:cubicBezTo>
                <a:cubicBezTo>
                  <a:pt x="220" y="24"/>
                  <a:pt x="247" y="24"/>
                  <a:pt x="288" y="28"/>
                </a:cubicBezTo>
                <a:cubicBezTo>
                  <a:pt x="329" y="32"/>
                  <a:pt x="350" y="37"/>
                  <a:pt x="400" y="32"/>
                </a:cubicBezTo>
                <a:cubicBezTo>
                  <a:pt x="450" y="27"/>
                  <a:pt x="496" y="28"/>
                  <a:pt x="588" y="0"/>
                </a:cubicBezTo>
                <a:cubicBezTo>
                  <a:pt x="548" y="100"/>
                  <a:pt x="532" y="179"/>
                  <a:pt x="512" y="264"/>
                </a:cubicBezTo>
                <a:cubicBezTo>
                  <a:pt x="492" y="349"/>
                  <a:pt x="478" y="445"/>
                  <a:pt x="468" y="512"/>
                </a:cubicBezTo>
                <a:cubicBezTo>
                  <a:pt x="458" y="579"/>
                  <a:pt x="455" y="632"/>
                  <a:pt x="452" y="6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338880" y="47530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V="1" rot="21559200">
            <a:off x="6019560" y="462060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6275520" y="450216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865760" y="519120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372360" y="4830840"/>
            <a:ext cx="0" cy="398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6208560" y="4803840"/>
            <a:ext cx="144720" cy="398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 rot="18480600">
            <a:off x="6199200" y="486072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5975280" y="4808520"/>
            <a:ext cx="3650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 rot="5400000">
            <a:off x="4749480" y="53089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 flipV="1" rot="16200000">
            <a:off x="4914720" y="532332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343200">
            <a:off x="6103800" y="5065560"/>
            <a:ext cx="135000" cy="63720"/>
          </a:xfrm>
          <a:custGeom>
            <a:avLst/>
            <a:gdLst/>
            <a:ahLst/>
            <a:rect l="l" t="t" r="r" b="b"/>
            <a:pathLst>
              <a:path w="85" h="40">
                <a:moveTo>
                  <a:pt x="0" y="0"/>
                </a:moveTo>
                <a:cubicBezTo>
                  <a:pt x="5" y="4"/>
                  <a:pt x="18" y="17"/>
                  <a:pt x="32" y="24"/>
                </a:cubicBezTo>
                <a:cubicBezTo>
                  <a:pt x="46" y="31"/>
                  <a:pt x="74" y="37"/>
                  <a:pt x="85" y="4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 flipV="1" rot="16200000">
            <a:off x="6424560" y="509976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008760" y="4873680"/>
            <a:ext cx="57240" cy="119160"/>
          </a:xfrm>
          <a:custGeom>
            <a:avLst/>
            <a:gdLst/>
            <a:ahLst/>
            <a:rect l="l" t="t" r="r" b="b"/>
            <a:pathLst>
              <a:path w="36" h="75">
                <a:moveTo>
                  <a:pt x="36" y="75"/>
                </a:moveTo>
                <a:cubicBezTo>
                  <a:pt x="33" y="71"/>
                  <a:pt x="24" y="64"/>
                  <a:pt x="18" y="51"/>
                </a:cubicBezTo>
                <a:cubicBezTo>
                  <a:pt x="12" y="38"/>
                  <a:pt x="4" y="11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6002280" y="46576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168960" y="51354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743440" y="44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537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964040" y="5006880"/>
            <a:ext cx="11160" cy="1447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970520" y="516564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788000" y="472428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427640" y="597528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7960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5247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524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524720" y="4795920"/>
            <a:ext cx="719280" cy="288720"/>
          </a:xfrm>
          <a:prstGeom prst="rect">
            <a:avLst/>
          </a:prstGeom>
          <a:blipFill rotWithShape="0">
            <a:blip r:embed="rId15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7956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6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316640" y="4925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8190000" y="4923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677000" y="4562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84548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639200" y="5425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7659720" y="542592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24000" y="1197000"/>
            <a:ext cx="2665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Вычисление коэффициент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х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989520" y="206064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5527800" y="2374920"/>
            <a:ext cx="28728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3798720" y="2806560"/>
            <a:ext cx="216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4067280" y="277488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989520" y="2739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660920" y="2355840"/>
            <a:ext cx="1136520" cy="1244520"/>
          </a:xfrm>
          <a:custGeom>
            <a:avLst/>
            <a:gdLst/>
            <a:ahLst/>
            <a:rect l="l" t="t" r="r" b="b"/>
            <a:pathLst>
              <a:path w="716" h="784">
                <a:moveTo>
                  <a:pt x="0" y="784"/>
                </a:moveTo>
                <a:cubicBezTo>
                  <a:pt x="11" y="753"/>
                  <a:pt x="47" y="651"/>
                  <a:pt x="68" y="588"/>
                </a:cubicBezTo>
                <a:cubicBezTo>
                  <a:pt x="89" y="525"/>
                  <a:pt x="110" y="461"/>
                  <a:pt x="125" y="404"/>
                </a:cubicBezTo>
                <a:cubicBezTo>
                  <a:pt x="140" y="347"/>
                  <a:pt x="151" y="286"/>
                  <a:pt x="160" y="244"/>
                </a:cubicBezTo>
                <a:cubicBezTo>
                  <a:pt x="169" y="202"/>
                  <a:pt x="173" y="193"/>
                  <a:pt x="180" y="152"/>
                </a:cubicBezTo>
                <a:cubicBezTo>
                  <a:pt x="187" y="111"/>
                  <a:pt x="188" y="80"/>
                  <a:pt x="200" y="0"/>
                </a:cubicBezTo>
                <a:cubicBezTo>
                  <a:pt x="276" y="20"/>
                  <a:pt x="308" y="29"/>
                  <a:pt x="364" y="36"/>
                </a:cubicBezTo>
                <a:cubicBezTo>
                  <a:pt x="422" y="41"/>
                  <a:pt x="489" y="38"/>
                  <a:pt x="548" y="32"/>
                </a:cubicBezTo>
                <a:cubicBezTo>
                  <a:pt x="607" y="26"/>
                  <a:pt x="681" y="7"/>
                  <a:pt x="71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816440" y="2746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880240" y="234324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5867280" y="2274840"/>
            <a:ext cx="216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6218280" y="3429000"/>
                <a:ext cx="2112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4" name=""/>
          <p:cNvSpPr/>
          <p:nvPr/>
        </p:nvSpPr>
        <p:spPr>
          <a:xfrm>
            <a:off x="2987640" y="1558800"/>
            <a:ext cx="3168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«Грузовое» 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827680" y="23954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029120" y="28130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 rot="5400000">
            <a:off x="5675040" y="2608560"/>
            <a:ext cx="1764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 flipH="1" flipV="1" rot="16200000">
            <a:off x="5873760" y="262944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 rot="5400000">
            <a:off x="3894120" y="2932920"/>
            <a:ext cx="11160" cy="1155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 flipV="1" rot="16200000">
            <a:off x="4079880" y="295020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1920960" y="50007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6680" y="2178000"/>
            <a:ext cx="38160" cy="98640"/>
          </a:xfrm>
          <a:custGeom>
            <a:avLst/>
            <a:gdLst/>
            <a:ahLst/>
            <a:rect l="l" t="t" r="r" b="b"/>
            <a:pathLst>
              <a:path w="24" h="62">
                <a:moveTo>
                  <a:pt x="0" y="0"/>
                </a:moveTo>
                <a:cubicBezTo>
                  <a:pt x="2" y="5"/>
                  <a:pt x="11" y="20"/>
                  <a:pt x="15" y="30"/>
                </a:cubicBezTo>
                <a:cubicBezTo>
                  <a:pt x="19" y="40"/>
                  <a:pt x="22" y="55"/>
                  <a:pt x="24" y="6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6053040" y="235116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172040" y="2627280"/>
            <a:ext cx="1116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178160" y="278604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02200" y="2427120"/>
            <a:ext cx="660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029120" y="288432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024600" y="208908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645160" y="266868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651640" y="153180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651640" y="2997360"/>
            <a:ext cx="31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 Black"/>
              </a:rPr>
              <a:t>3. Канонические уравнения метода с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970440" y="207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712800" y="1852560"/>
                <a:ext cx="1963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684360" y="2486160"/>
                <a:ext cx="20048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24000" y="2971800"/>
                <a:ext cx="2512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684360" y="3494160"/>
                <a:ext cx="2020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956720" y="2362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805440" y="23493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669080" y="1916280"/>
            <a:ext cx="868320" cy="347400"/>
          </a:xfrm>
          <a:custGeom>
            <a:avLst/>
            <a:gdLst/>
            <a:ahLst/>
            <a:rect l="l" t="t" r="r" b="b"/>
            <a:pathLst>
              <a:path w="547" h="219">
                <a:moveTo>
                  <a:pt x="2" y="0"/>
                </a:moveTo>
                <a:cubicBezTo>
                  <a:pt x="2" y="26"/>
                  <a:pt x="4" y="41"/>
                  <a:pt x="0" y="157"/>
                </a:cubicBezTo>
                <a:cubicBezTo>
                  <a:pt x="58" y="183"/>
                  <a:pt x="113" y="207"/>
                  <a:pt x="168" y="213"/>
                </a:cubicBezTo>
                <a:cubicBezTo>
                  <a:pt x="222" y="219"/>
                  <a:pt x="276" y="211"/>
                  <a:pt x="324" y="193"/>
                </a:cubicBezTo>
                <a:cubicBezTo>
                  <a:pt x="372" y="175"/>
                  <a:pt x="419" y="134"/>
                  <a:pt x="456" y="102"/>
                </a:cubicBezTo>
                <a:cubicBezTo>
                  <a:pt x="493" y="70"/>
                  <a:pt x="520" y="34"/>
                  <a:pt x="547" y="0"/>
                </a:cubicBez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667640" y="1916280"/>
            <a:ext cx="252360" cy="433080"/>
          </a:xfrm>
          <a:prstGeom prst="rect">
            <a:avLst/>
          </a:prstGeom>
          <a:blipFill rotWithShape="0">
            <a:blip r:embed="rId18">
              <a:alphaModFix amt="54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667640" y="2349360"/>
            <a:ext cx="360360" cy="863640"/>
          </a:xfrm>
          <a:custGeom>
            <a:avLst/>
            <a:gdLst/>
            <a:ahLst/>
            <a:rect l="l" t="t" r="r" b="b"/>
            <a:pathLst>
              <a:path w="227" h="544">
                <a:moveTo>
                  <a:pt x="0" y="544"/>
                </a:moveTo>
                <a:lnTo>
                  <a:pt x="0" y="0"/>
                </a:lnTo>
                <a:lnTo>
                  <a:pt x="227" y="0"/>
                </a:lnTo>
                <a:lnTo>
                  <a:pt x="0" y="544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669080" y="191772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8101080" y="1916280"/>
            <a:ext cx="0" cy="32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8126280" y="2173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753320" y="16891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7386480" y="20145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 flipH="1" flipV="1">
            <a:off x="8101080" y="2238480"/>
            <a:ext cx="100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 flipV="1">
            <a:off x="8028000" y="2349000"/>
            <a:ext cx="100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885080" y="2708280"/>
            <a:ext cx="57456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7902720" y="275580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724360" y="3213000"/>
            <a:ext cx="288000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7. Вычис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вободных член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«грузовых»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6026040" y="3881520"/>
                <a:ext cx="20592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6" dur="indefinite" restart="never" nodeType="tmRoot">
          <p:childTnLst>
            <p:seq>
              <p:cTn id="2987" dur="indefinite" nodeType="mainSeq">
                <p:childTnLst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2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5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8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1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4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7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0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3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2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5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8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1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2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1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795840" y="3787920"/>
            <a:ext cx="1726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79584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52276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659480" y="3645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032280" y="365616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032280" y="236052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032280" y="279252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103560" y="2360520"/>
            <a:ext cx="0" cy="129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760920" y="374508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4619520" y="37497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5479920" y="37508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070080" y="23223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065400" y="27525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67200" y="3616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906640" y="30812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946760" y="3537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913120" y="2438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011480" y="35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795840" y="27795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659480" y="2347920"/>
            <a:ext cx="86328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666960" y="3643200"/>
            <a:ext cx="25272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530600" y="36432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398920" y="3643200"/>
            <a:ext cx="25272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67020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533840" y="36432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398920" y="36432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75768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619520" y="360504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486400" y="3603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4813920" y="266148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98720" y="25192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19640" y="194796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822920" y="28814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86280" y="2770200"/>
            <a:ext cx="71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70188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97376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11812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827680" y="2192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148360" y="23623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792760" y="2311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6104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8632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52924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673600" y="2198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962600" y="21956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1280" y="30830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71636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5238720" y="3154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230720" y="2732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90000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62864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74720" y="587700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504800" y="5877000"/>
            <a:ext cx="25272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224080" y="587700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7796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150804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224080" y="58770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65080" y="5837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593720" y="58388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11560" y="5837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730520" y="5383080"/>
            <a:ext cx="50292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628640" y="53672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685800" y="5149800"/>
            <a:ext cx="743040" cy="679680"/>
          </a:xfrm>
          <a:custGeom>
            <a:avLst/>
            <a:gdLst/>
            <a:ahLst/>
            <a:rect l="l" t="t" r="r" b="b"/>
            <a:pathLst>
              <a:path w="468" h="428">
                <a:moveTo>
                  <a:pt x="128" y="428"/>
                </a:moveTo>
                <a:cubicBezTo>
                  <a:pt x="123" y="403"/>
                  <a:pt x="108" y="324"/>
                  <a:pt x="96" y="276"/>
                </a:cubicBezTo>
                <a:cubicBezTo>
                  <a:pt x="84" y="228"/>
                  <a:pt x="72" y="182"/>
                  <a:pt x="56" y="136"/>
                </a:cubicBezTo>
                <a:cubicBezTo>
                  <a:pt x="40" y="90"/>
                  <a:pt x="40" y="92"/>
                  <a:pt x="0" y="0"/>
                </a:cubicBezTo>
                <a:cubicBezTo>
                  <a:pt x="52" y="16"/>
                  <a:pt x="74" y="19"/>
                  <a:pt x="116" y="24"/>
                </a:cubicBezTo>
                <a:cubicBezTo>
                  <a:pt x="158" y="29"/>
                  <a:pt x="193" y="35"/>
                  <a:pt x="252" y="32"/>
                </a:cubicBezTo>
                <a:cubicBezTo>
                  <a:pt x="311" y="29"/>
                  <a:pt x="423" y="10"/>
                  <a:pt x="468" y="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378080" y="4756320"/>
            <a:ext cx="749160" cy="1085760"/>
          </a:xfrm>
          <a:custGeom>
            <a:avLst/>
            <a:gdLst/>
            <a:ahLst/>
            <a:rect l="l" t="t" r="r" b="b"/>
            <a:pathLst>
              <a:path w="472" h="684">
                <a:moveTo>
                  <a:pt x="148" y="684"/>
                </a:moveTo>
                <a:cubicBezTo>
                  <a:pt x="139" y="651"/>
                  <a:pt x="108" y="545"/>
                  <a:pt x="92" y="484"/>
                </a:cubicBezTo>
                <a:cubicBezTo>
                  <a:pt x="76" y="423"/>
                  <a:pt x="64" y="373"/>
                  <a:pt x="52" y="320"/>
                </a:cubicBezTo>
                <a:cubicBezTo>
                  <a:pt x="40" y="267"/>
                  <a:pt x="29" y="213"/>
                  <a:pt x="20" y="164"/>
                </a:cubicBezTo>
                <a:cubicBezTo>
                  <a:pt x="11" y="115"/>
                  <a:pt x="8" y="92"/>
                  <a:pt x="0" y="24"/>
                </a:cubicBezTo>
                <a:cubicBezTo>
                  <a:pt x="80" y="12"/>
                  <a:pt x="153" y="1"/>
                  <a:pt x="232" y="0"/>
                </a:cubicBezTo>
                <a:cubicBezTo>
                  <a:pt x="311" y="0"/>
                  <a:pt x="422" y="19"/>
                  <a:pt x="472" y="2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351080" y="51195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117880" y="4829040"/>
            <a:ext cx="215640" cy="100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076480" y="4762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58800" y="51246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96720" y="3994200"/>
            <a:ext cx="5543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Единичные состоя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690480" y="51958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736560" y="5176800"/>
            <a:ext cx="30636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 rot="12280800">
            <a:off x="752760" y="501372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104920" y="48308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996840" y="5019840"/>
            <a:ext cx="1116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 rot="5400000">
            <a:off x="2041200" y="4972320"/>
            <a:ext cx="1116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H="1" flipV="1">
            <a:off x="1998720" y="4790520"/>
            <a:ext cx="7920" cy="1155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1998720" y="4632480"/>
            <a:ext cx="792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 flipV="1" rot="16200000">
            <a:off x="2212200" y="4974480"/>
            <a:ext cx="7920" cy="11088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16040" y="5195880"/>
            <a:ext cx="154080" cy="32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V="1" rot="15777000">
            <a:off x="555120" y="523836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96840" y="523080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H="1" flipV="1" rot="16200000">
            <a:off x="744480" y="5408640"/>
            <a:ext cx="54000" cy="162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54040" y="54514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958680" y="51404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35000" y="44226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49440" y="597852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95280" y="474660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ru-RU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77164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50028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771640" y="5157720"/>
            <a:ext cx="28764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203640" y="4797360"/>
            <a:ext cx="28872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771640" y="515772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9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492360" y="4508640"/>
            <a:ext cx="719280" cy="28872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274920" y="43657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087720" y="4552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916360" y="49212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584440" y="53053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645000" y="5415120"/>
            <a:ext cx="45072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635280" y="54212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796080" y="5157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4797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7524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524720" y="4795920"/>
            <a:ext cx="719280" cy="288720"/>
          </a:xfrm>
          <a:prstGeom prst="rect">
            <a:avLst/>
          </a:prstGeom>
          <a:blipFill rotWithShape="0">
            <a:blip r:embed="rId12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7956720" y="4797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3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7316640" y="4925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8190000" y="4923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7956720" y="2362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7845480" y="45655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7639200" y="5425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659720" y="542592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24000" y="1197000"/>
            <a:ext cx="266544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Вычисление коэффициент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х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989520" y="206064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5527800" y="2374920"/>
            <a:ext cx="28728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 flipH="1">
            <a:off x="3798720" y="2806560"/>
            <a:ext cx="21600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067280" y="277488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3989520" y="27399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660920" y="2355840"/>
            <a:ext cx="1136520" cy="1244520"/>
          </a:xfrm>
          <a:custGeom>
            <a:avLst/>
            <a:gdLst/>
            <a:ahLst/>
            <a:rect l="l" t="t" r="r" b="b"/>
            <a:pathLst>
              <a:path w="716" h="784">
                <a:moveTo>
                  <a:pt x="0" y="784"/>
                </a:moveTo>
                <a:cubicBezTo>
                  <a:pt x="11" y="753"/>
                  <a:pt x="47" y="651"/>
                  <a:pt x="68" y="588"/>
                </a:cubicBezTo>
                <a:cubicBezTo>
                  <a:pt x="89" y="525"/>
                  <a:pt x="110" y="461"/>
                  <a:pt x="125" y="404"/>
                </a:cubicBezTo>
                <a:cubicBezTo>
                  <a:pt x="140" y="347"/>
                  <a:pt x="151" y="286"/>
                  <a:pt x="160" y="244"/>
                </a:cubicBezTo>
                <a:cubicBezTo>
                  <a:pt x="169" y="202"/>
                  <a:pt x="173" y="193"/>
                  <a:pt x="180" y="152"/>
                </a:cubicBezTo>
                <a:cubicBezTo>
                  <a:pt x="187" y="111"/>
                  <a:pt x="188" y="80"/>
                  <a:pt x="200" y="0"/>
                </a:cubicBezTo>
                <a:cubicBezTo>
                  <a:pt x="276" y="20"/>
                  <a:pt x="308" y="29"/>
                  <a:pt x="364" y="36"/>
                </a:cubicBezTo>
                <a:cubicBezTo>
                  <a:pt x="422" y="41"/>
                  <a:pt x="489" y="38"/>
                  <a:pt x="548" y="32"/>
                </a:cubicBezTo>
                <a:cubicBezTo>
                  <a:pt x="607" y="26"/>
                  <a:pt x="681" y="7"/>
                  <a:pt x="71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816440" y="2746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880240" y="234324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5867280" y="2274840"/>
            <a:ext cx="216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987640" y="1558800"/>
            <a:ext cx="31687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«Грузовое» 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827680" y="23954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029120" y="28130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 flipV="1" rot="5400000">
            <a:off x="5675040" y="2608560"/>
            <a:ext cx="17640" cy="11592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 flipH="1" flipV="1" rot="16200000">
            <a:off x="5873760" y="262944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V="1" rot="5400000">
            <a:off x="3894120" y="2932920"/>
            <a:ext cx="11160" cy="1155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 flipH="1" flipV="1" rot="16200000">
            <a:off x="4079880" y="2950200"/>
            <a:ext cx="7920" cy="11124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920960" y="50007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016680" y="2178000"/>
            <a:ext cx="38160" cy="98640"/>
          </a:xfrm>
          <a:custGeom>
            <a:avLst/>
            <a:gdLst/>
            <a:ahLst/>
            <a:rect l="l" t="t" r="r" b="b"/>
            <a:pathLst>
              <a:path w="24" h="62">
                <a:moveTo>
                  <a:pt x="0" y="0"/>
                </a:moveTo>
                <a:cubicBezTo>
                  <a:pt x="2" y="5"/>
                  <a:pt x="11" y="20"/>
                  <a:pt x="15" y="30"/>
                </a:cubicBezTo>
                <a:cubicBezTo>
                  <a:pt x="19" y="40"/>
                  <a:pt x="22" y="55"/>
                  <a:pt x="24" y="6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053040" y="235116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172040" y="2627280"/>
            <a:ext cx="11160" cy="14436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4178160" y="2786040"/>
            <a:ext cx="7920" cy="108000"/>
          </a:xfrm>
          <a:custGeom>
            <a:avLst/>
            <a:gdLst/>
            <a:ahLst/>
            <a:rect l="l" t="t" r="r" b="b"/>
            <a:pathLst>
              <a:path w="52" h="91">
                <a:moveTo>
                  <a:pt x="0" y="0"/>
                </a:moveTo>
                <a:cubicBezTo>
                  <a:pt x="19" y="15"/>
                  <a:pt x="38" y="30"/>
                  <a:pt x="45" y="45"/>
                </a:cubicBezTo>
                <a:cubicBezTo>
                  <a:pt x="52" y="60"/>
                  <a:pt x="48" y="75"/>
                  <a:pt x="45" y="9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102200" y="2427120"/>
            <a:ext cx="660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029120" y="288432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024600" y="208908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645160" y="2668680"/>
            <a:ext cx="39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651640" y="1531800"/>
            <a:ext cx="2016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805440" y="23493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7664400" y="1916280"/>
            <a:ext cx="868320" cy="347400"/>
          </a:xfrm>
          <a:custGeom>
            <a:avLst/>
            <a:gdLst/>
            <a:ahLst/>
            <a:rect l="l" t="t" r="r" b="b"/>
            <a:pathLst>
              <a:path w="547" h="219">
                <a:moveTo>
                  <a:pt x="2" y="0"/>
                </a:moveTo>
                <a:cubicBezTo>
                  <a:pt x="2" y="26"/>
                  <a:pt x="4" y="41"/>
                  <a:pt x="0" y="157"/>
                </a:cubicBezTo>
                <a:cubicBezTo>
                  <a:pt x="58" y="183"/>
                  <a:pt x="113" y="207"/>
                  <a:pt x="168" y="213"/>
                </a:cubicBezTo>
                <a:cubicBezTo>
                  <a:pt x="222" y="219"/>
                  <a:pt x="276" y="211"/>
                  <a:pt x="324" y="193"/>
                </a:cubicBezTo>
                <a:cubicBezTo>
                  <a:pt x="372" y="175"/>
                  <a:pt x="419" y="134"/>
                  <a:pt x="456" y="102"/>
                </a:cubicBezTo>
                <a:cubicBezTo>
                  <a:pt x="493" y="70"/>
                  <a:pt x="520" y="34"/>
                  <a:pt x="547" y="0"/>
                </a:cubicBez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7667640" y="1916280"/>
            <a:ext cx="252360" cy="433080"/>
          </a:xfrm>
          <a:prstGeom prst="rect">
            <a:avLst/>
          </a:prstGeom>
          <a:blipFill rotWithShape="0">
            <a:blip r:embed="rId15">
              <a:alphaModFix amt="54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667640" y="2349360"/>
            <a:ext cx="360360" cy="863640"/>
          </a:xfrm>
          <a:custGeom>
            <a:avLst/>
            <a:gdLst/>
            <a:ahLst/>
            <a:rect l="l" t="t" r="r" b="b"/>
            <a:pathLst>
              <a:path w="227" h="544">
                <a:moveTo>
                  <a:pt x="0" y="544"/>
                </a:moveTo>
                <a:lnTo>
                  <a:pt x="0" y="0"/>
                </a:lnTo>
                <a:lnTo>
                  <a:pt x="227" y="0"/>
                </a:lnTo>
                <a:lnTo>
                  <a:pt x="0" y="544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7669080" y="191772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8101080" y="1916280"/>
            <a:ext cx="0" cy="32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8126280" y="21733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753320" y="16891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386480" y="20145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8101080" y="2238480"/>
            <a:ext cx="100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 flipV="1">
            <a:off x="8028000" y="2349000"/>
            <a:ext cx="100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885080" y="2708280"/>
            <a:ext cx="57456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902720" y="275580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724360" y="3213000"/>
            <a:ext cx="288000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7. Вычис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вободных член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«грузовых»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 rot="1797000">
            <a:off x="6084720" y="4365360"/>
            <a:ext cx="216000" cy="360360"/>
          </a:xfrm>
          <a:prstGeom prst="downArrow">
            <a:avLst>
              <a:gd name="adj1" fmla="val 38250"/>
              <a:gd name="adj2" fmla="val 6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4287960" y="4653000"/>
                <a:ext cx="2539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05240" y="5229360"/>
                <a:ext cx="2419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9" name=""/>
          <p:cNvSpPr/>
          <p:nvPr/>
        </p:nvSpPr>
        <p:spPr>
          <a:xfrm>
            <a:off x="3970440" y="207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712800" y="1852560"/>
                <a:ext cx="1963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684360" y="2486160"/>
                <a:ext cx="20048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324000" y="2971800"/>
                <a:ext cx="25128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684360" y="3494160"/>
                <a:ext cx="2020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6026040" y="3881520"/>
                <a:ext cx="20592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4" dur="indefinite" restart="never" nodeType="tmRoot">
          <p:childTnLst>
            <p:seq>
              <p:cTn id="3055" dur="indefinite" nodeType="mainSeq">
                <p:childTnLst>
                  <p:par>
                    <p:cTn id="3056" fill="hold">
                      <p:stCondLst>
                        <p:cond delay="0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6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оже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числение «грузовых» перемещений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395360" y="272880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124000" y="236844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395360" y="2728800"/>
            <a:ext cx="28728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27360" y="2368440"/>
            <a:ext cx="28872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395360" y="272880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116080" y="2079720"/>
            <a:ext cx="719280" cy="28872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898640" y="19368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711440" y="2124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539720" y="2492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208160" y="28764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268360" y="2986200"/>
            <a:ext cx="45108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259000" y="29923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489720" y="270972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7218360" y="234936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18360" y="234936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7218360" y="2347920"/>
            <a:ext cx="719280" cy="28908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7649280" y="2349360"/>
            <a:ext cx="28764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7010280" y="24782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883640" y="2475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370640" y="211464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539120" y="21178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332840" y="297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353360" y="2978280"/>
            <a:ext cx="45072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3048120" y="3716280"/>
                <a:ext cx="2678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596880" y="4734000"/>
                <a:ext cx="78757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</m:e>
                        </m:nary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2" name=""/>
          <p:cNvSpPr/>
          <p:nvPr/>
        </p:nvSpPr>
        <p:spPr>
          <a:xfrm>
            <a:off x="4916520" y="2589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765600" y="257652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624560" y="2143080"/>
            <a:ext cx="868320" cy="347760"/>
          </a:xfrm>
          <a:custGeom>
            <a:avLst/>
            <a:gdLst/>
            <a:ahLst/>
            <a:rect l="l" t="t" r="r" b="b"/>
            <a:pathLst>
              <a:path w="547" h="219">
                <a:moveTo>
                  <a:pt x="2" y="0"/>
                </a:moveTo>
                <a:cubicBezTo>
                  <a:pt x="2" y="26"/>
                  <a:pt x="4" y="41"/>
                  <a:pt x="0" y="157"/>
                </a:cubicBezTo>
                <a:cubicBezTo>
                  <a:pt x="58" y="183"/>
                  <a:pt x="113" y="207"/>
                  <a:pt x="168" y="213"/>
                </a:cubicBezTo>
                <a:cubicBezTo>
                  <a:pt x="222" y="219"/>
                  <a:pt x="276" y="211"/>
                  <a:pt x="324" y="193"/>
                </a:cubicBezTo>
                <a:cubicBezTo>
                  <a:pt x="372" y="175"/>
                  <a:pt x="419" y="134"/>
                  <a:pt x="456" y="102"/>
                </a:cubicBezTo>
                <a:cubicBezTo>
                  <a:pt x="493" y="70"/>
                  <a:pt x="520" y="34"/>
                  <a:pt x="547" y="0"/>
                </a:cubicBez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627440" y="2143080"/>
            <a:ext cx="252360" cy="433440"/>
          </a:xfrm>
          <a:prstGeom prst="rect">
            <a:avLst/>
          </a:pr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627440" y="2576520"/>
            <a:ext cx="360360" cy="863640"/>
          </a:xfrm>
          <a:custGeom>
            <a:avLst/>
            <a:gdLst/>
            <a:ahLst/>
            <a:rect l="l" t="t" r="r" b="b"/>
            <a:pathLst>
              <a:path w="227" h="544">
                <a:moveTo>
                  <a:pt x="0" y="544"/>
                </a:moveTo>
                <a:lnTo>
                  <a:pt x="0" y="0"/>
                </a:lnTo>
                <a:lnTo>
                  <a:pt x="227" y="0"/>
                </a:lnTo>
                <a:lnTo>
                  <a:pt x="0" y="54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629240" y="214488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060880" y="214308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086440" y="24004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13120" y="1916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346640" y="2241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 flipV="1">
            <a:off x="5060880" y="2464920"/>
            <a:ext cx="100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H="1" flipV="1">
            <a:off x="4987800" y="2576520"/>
            <a:ext cx="100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844880" y="2935440"/>
            <a:ext cx="57492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862520" y="298296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666720" y="5506920"/>
                <a:ext cx="77374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</m:e>
                        </m:nary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1" dur="indefinite" restart="never" nodeType="tmRoot">
          <p:childTnLst>
            <p:seq>
              <p:cTn id="3072" dur="indefinite" nodeType="mainSeq">
                <p:childTnLst>
                  <p:par>
                    <p:cTn id="3073" fill="hold">
                      <p:stCondLst>
                        <p:cond delay="0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7" dur="500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0" dur="500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1" fill="hold">
                            <p:stCondLst>
                              <p:cond delay="500"/>
                            </p:stCondLst>
                            <p:childTnLst>
                              <p:par>
                                <p:cTn id="30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4" dur="80"/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5" dur="80"/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6" dur="80"/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500"/>
                            </p:stCondLst>
                            <p:childTnLst>
                              <p:par>
                                <p:cTn id="30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5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6" dur="2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18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2" dur="2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3" dur="2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18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466560" y="1038240"/>
            <a:ext cx="82090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Проверки коэффициентов и свободных членов КУМ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иничных и «грузовых» перемещений в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39640" y="1557360"/>
            <a:ext cx="24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уммарное единичное состояние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900000" y="270828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628640" y="234792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74720" y="3427560"/>
            <a:ext cx="2523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504800" y="3427560"/>
            <a:ext cx="25272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224080" y="3427560"/>
            <a:ext cx="252360" cy="7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777960" y="3427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508040" y="3427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224080" y="3427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65080" y="33876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593720" y="338940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311560" y="3387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547640" y="26701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311560" y="23130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861840" y="26701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890640" y="2708280"/>
            <a:ext cx="71892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619280" y="234792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65000" y="3427560"/>
            <a:ext cx="25272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495440" y="3427560"/>
            <a:ext cx="252360" cy="72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214720" y="3427560"/>
            <a:ext cx="252360" cy="72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765000" y="342756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495440" y="3427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211480" y="3427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855720" y="3387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584360" y="33894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301840" y="33876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1779480" y="2948040"/>
            <a:ext cx="39240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619280" y="2917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528920" y="2349360"/>
            <a:ext cx="792000" cy="1041480"/>
          </a:xfrm>
          <a:custGeom>
            <a:avLst/>
            <a:gdLst/>
            <a:ahLst/>
            <a:rect l="l" t="t" r="r" b="b"/>
            <a:pathLst>
              <a:path w="499" h="656">
                <a:moveTo>
                  <a:pt x="51" y="656"/>
                </a:moveTo>
                <a:cubicBezTo>
                  <a:pt x="46" y="635"/>
                  <a:pt x="31" y="583"/>
                  <a:pt x="23" y="532"/>
                </a:cubicBezTo>
                <a:cubicBezTo>
                  <a:pt x="15" y="481"/>
                  <a:pt x="6" y="411"/>
                  <a:pt x="3" y="348"/>
                </a:cubicBezTo>
                <a:cubicBezTo>
                  <a:pt x="0" y="285"/>
                  <a:pt x="2" y="210"/>
                  <a:pt x="7" y="152"/>
                </a:cubicBezTo>
                <a:cubicBezTo>
                  <a:pt x="12" y="94"/>
                  <a:pt x="15" y="76"/>
                  <a:pt x="35" y="0"/>
                </a:cubicBezTo>
                <a:cubicBezTo>
                  <a:pt x="103" y="16"/>
                  <a:pt x="144" y="27"/>
                  <a:pt x="195" y="32"/>
                </a:cubicBezTo>
                <a:cubicBezTo>
                  <a:pt x="245" y="38"/>
                  <a:pt x="291" y="41"/>
                  <a:pt x="335" y="36"/>
                </a:cubicBezTo>
                <a:cubicBezTo>
                  <a:pt x="379" y="31"/>
                  <a:pt x="403" y="24"/>
                  <a:pt x="460" y="0"/>
                </a:cubicBezTo>
                <a:cubicBezTo>
                  <a:pt x="439" y="56"/>
                  <a:pt x="436" y="58"/>
                  <a:pt x="427" y="100"/>
                </a:cubicBezTo>
                <a:cubicBezTo>
                  <a:pt x="418" y="144"/>
                  <a:pt x="406" y="203"/>
                  <a:pt x="407" y="264"/>
                </a:cubicBezTo>
                <a:cubicBezTo>
                  <a:pt x="408" y="325"/>
                  <a:pt x="416" y="399"/>
                  <a:pt x="431" y="464"/>
                </a:cubicBezTo>
                <a:cubicBezTo>
                  <a:pt x="446" y="529"/>
                  <a:pt x="485" y="616"/>
                  <a:pt x="499" y="6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790560" y="2705040"/>
            <a:ext cx="676440" cy="679680"/>
          </a:xfrm>
          <a:custGeom>
            <a:avLst/>
            <a:gdLst/>
            <a:ahLst/>
            <a:rect l="l" t="t" r="r" b="b"/>
            <a:pathLst>
              <a:path w="426" h="428">
                <a:moveTo>
                  <a:pt x="68" y="428"/>
                </a:moveTo>
                <a:cubicBezTo>
                  <a:pt x="69" y="408"/>
                  <a:pt x="77" y="362"/>
                  <a:pt x="72" y="308"/>
                </a:cubicBezTo>
                <a:cubicBezTo>
                  <a:pt x="67" y="254"/>
                  <a:pt x="52" y="155"/>
                  <a:pt x="40" y="104"/>
                </a:cubicBezTo>
                <a:cubicBezTo>
                  <a:pt x="28" y="53"/>
                  <a:pt x="24" y="52"/>
                  <a:pt x="0" y="0"/>
                </a:cubicBezTo>
                <a:cubicBezTo>
                  <a:pt x="68" y="36"/>
                  <a:pt x="83" y="36"/>
                  <a:pt x="124" y="44"/>
                </a:cubicBezTo>
                <a:cubicBezTo>
                  <a:pt x="165" y="52"/>
                  <a:pt x="194" y="55"/>
                  <a:pt x="244" y="48"/>
                </a:cubicBezTo>
                <a:cubicBezTo>
                  <a:pt x="294" y="41"/>
                  <a:pt x="365" y="21"/>
                  <a:pt x="426" y="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752400" y="26701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450800" y="267012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230560" y="23130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205000" y="2041560"/>
            <a:ext cx="66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ru-RU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14280" y="2378160"/>
            <a:ext cx="66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 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=</a:t>
            </a:r>
            <a:r>
              <a:rPr b="1" lang="en-US" sz="9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90560" y="27432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265480" y="24084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814320" y="2739960"/>
            <a:ext cx="14436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839880" y="2736720"/>
            <a:ext cx="301680" cy="127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V="1" rot="16881000">
            <a:off x="622080" y="2792520"/>
            <a:ext cx="28836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flipV="1" rot="12280800">
            <a:off x="860760" y="258948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1928880" y="2364840"/>
            <a:ext cx="30168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95560" y="2374920"/>
            <a:ext cx="15696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 rot="18004800">
            <a:off x="2129760" y="241632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V="1" rot="871200">
            <a:off x="1935720" y="213264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rot="735600">
            <a:off x="791640" y="293652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5" y="45"/>
                  <a:pt x="17" y="45"/>
                  <a:pt x="29" y="41"/>
                </a:cubicBezTo>
                <a:cubicBezTo>
                  <a:pt x="41" y="37"/>
                  <a:pt x="59" y="30"/>
                  <a:pt x="69" y="23"/>
                </a:cubicBezTo>
                <a:cubicBezTo>
                  <a:pt x="79" y="16"/>
                  <a:pt x="86" y="5"/>
                  <a:pt x="9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rot="2551800">
            <a:off x="2118960" y="259380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5" y="45"/>
                  <a:pt x="17" y="45"/>
                  <a:pt x="29" y="41"/>
                </a:cubicBezTo>
                <a:cubicBezTo>
                  <a:pt x="41" y="37"/>
                  <a:pt x="59" y="30"/>
                  <a:pt x="69" y="23"/>
                </a:cubicBezTo>
                <a:cubicBezTo>
                  <a:pt x="79" y="16"/>
                  <a:pt x="86" y="5"/>
                  <a:pt x="9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rot="18056400">
            <a:off x="1054080" y="273960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5" y="45"/>
                  <a:pt x="17" y="45"/>
                  <a:pt x="29" y="41"/>
                </a:cubicBezTo>
                <a:cubicBezTo>
                  <a:pt x="41" y="37"/>
                  <a:pt x="59" y="30"/>
                  <a:pt x="69" y="23"/>
                </a:cubicBezTo>
                <a:cubicBezTo>
                  <a:pt x="79" y="16"/>
                  <a:pt x="86" y="5"/>
                  <a:pt x="9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5865600">
            <a:off x="1860120" y="2377800"/>
            <a:ext cx="142920" cy="73080"/>
          </a:xfrm>
          <a:custGeom>
            <a:avLst/>
            <a:gdLst/>
            <a:ahLst/>
            <a:rect l="l" t="t" r="r" b="b"/>
            <a:pathLst>
              <a:path w="90" h="46">
                <a:moveTo>
                  <a:pt x="0" y="46"/>
                </a:moveTo>
                <a:cubicBezTo>
                  <a:pt x="5" y="45"/>
                  <a:pt x="17" y="45"/>
                  <a:pt x="29" y="41"/>
                </a:cubicBezTo>
                <a:cubicBezTo>
                  <a:pt x="41" y="37"/>
                  <a:pt x="59" y="30"/>
                  <a:pt x="69" y="23"/>
                </a:cubicBezTo>
                <a:cubicBezTo>
                  <a:pt x="79" y="16"/>
                  <a:pt x="86" y="5"/>
                  <a:pt x="9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836640" y="29052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079640" y="27068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1682640" y="23320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892160" y="25542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674640" y="3500280"/>
            <a:ext cx="201600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900000" y="5229360"/>
            <a:ext cx="719280" cy="71892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900000" y="5229360"/>
            <a:ext cx="287280" cy="71892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>
            <a:off x="2050200" y="4869000"/>
            <a:ext cx="287640" cy="107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8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1620720" y="4869000"/>
            <a:ext cx="71928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9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530360" y="4869000"/>
            <a:ext cx="88920" cy="1081080"/>
          </a:xfrm>
          <a:custGeom>
            <a:avLst/>
            <a:gdLst/>
            <a:ahLst/>
            <a:rect l="l" t="t" r="r" b="b"/>
            <a:pathLst>
              <a:path w="56" h="681">
                <a:moveTo>
                  <a:pt x="56" y="681"/>
                </a:moveTo>
                <a:lnTo>
                  <a:pt x="0" y="224"/>
                </a:lnTo>
                <a:lnTo>
                  <a:pt x="5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00000" y="522936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1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628640" y="4869000"/>
            <a:ext cx="719280" cy="1079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727280" y="541980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717560" y="542592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920960" y="46324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292480" y="5030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684360" y="53532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042920" y="50007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222200" y="50007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132000" y="15778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а) универсальная проверка коэффициен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125960" y="2637000"/>
                <a:ext cx="29368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3276720" y="3149640"/>
                <a:ext cx="3728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1" name=""/>
          <p:cNvSpPr/>
          <p:nvPr/>
        </p:nvSpPr>
        <p:spPr>
          <a:xfrm>
            <a:off x="4348080" y="1954080"/>
            <a:ext cx="2519280" cy="7207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4460760" y="1924200"/>
                <a:ext cx="22892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7032600" y="3271680"/>
                <a:ext cx="5745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/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4" name=""/>
          <p:cNvSpPr/>
          <p:nvPr/>
        </p:nvSpPr>
        <p:spPr>
          <a:xfrm>
            <a:off x="7667640" y="2781360"/>
            <a:ext cx="217440" cy="1008000"/>
          </a:xfrm>
          <a:custGeom>
            <a:avLst/>
            <a:gdLst>
              <a:gd name="textAreaLeft" fmla="*/ 0 w 217440"/>
              <a:gd name="textAreaRight" fmla="*/ 7848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7918560" y="3056040"/>
            <a:ext cx="431640" cy="431640"/>
          </a:xfrm>
          <a:prstGeom prst="ellipse">
            <a:avLst/>
          </a:prstGeom>
          <a:solidFill>
            <a:srgbClr val="d9e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956720" y="3043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132000" y="399888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) проверка свободных членов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356000" y="4403880"/>
            <a:ext cx="2519640" cy="7207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4538520" y="4373640"/>
                <a:ext cx="2148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4194000" y="5084640"/>
                <a:ext cx="29577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4181400" y="5668920"/>
                <a:ext cx="25020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6694560" y="5788080"/>
                <a:ext cx="4269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7308720" y="5229360"/>
            <a:ext cx="217440" cy="1008000"/>
          </a:xfrm>
          <a:custGeom>
            <a:avLst/>
            <a:gdLst>
              <a:gd name="textAreaLeft" fmla="*/ 0 w 217440"/>
              <a:gd name="textAreaRight" fmla="*/ 78480 w 2174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7558200" y="5518080"/>
            <a:ext cx="431640" cy="432000"/>
          </a:xfrm>
          <a:prstGeom prst="ellipse">
            <a:avLst/>
          </a:prstGeom>
          <a:solidFill>
            <a:srgbClr val="d9ed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7597800" y="5491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6" dur="indefinite" restart="never" nodeType="tmRoot">
          <p:childTnLst>
            <p:seq>
              <p:cTn id="3107" dur="indefinite" nodeType="mainSeq">
                <p:childTnLst>
                  <p:par>
                    <p:cTn id="3108" fill="hold">
                      <p:stCondLst>
                        <p:cond delay="0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2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3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4" dur="8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1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5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8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1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4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7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0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3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6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9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2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5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8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1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4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1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77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3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6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9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2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5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8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4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7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1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4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7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0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3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6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9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2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5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8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1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4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7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0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3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9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2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5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8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1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4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7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0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5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8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1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4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8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1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4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8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1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4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8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2" dur="80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3" dur="80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4" dur="80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9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0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4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5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9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0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4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9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0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4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5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10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9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1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4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5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9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0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4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5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1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9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4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5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1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9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0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1" dur="1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4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6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8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1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6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1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9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2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5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2" dur="10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7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5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6" fill="hold">
                      <p:stCondLst>
                        <p:cond delay="indefinite"/>
                      </p:stCondLst>
                      <p:childTnLst>
                        <p:par>
                          <p:cTn id="3467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4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ложе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числение суммарных (обобщённых) перемещений – единичного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грузового»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281160" y="5318280"/>
                <a:ext cx="253836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2749680" y="5435640"/>
                <a:ext cx="60562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0" name=""/>
          <p:cNvSpPr/>
          <p:nvPr/>
        </p:nvSpPr>
        <p:spPr>
          <a:xfrm>
            <a:off x="5483160" y="2589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4332240" y="257652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5191200" y="2143080"/>
            <a:ext cx="868320" cy="347760"/>
          </a:xfrm>
          <a:custGeom>
            <a:avLst/>
            <a:gdLst/>
            <a:ahLst/>
            <a:rect l="l" t="t" r="r" b="b"/>
            <a:pathLst>
              <a:path w="547" h="219">
                <a:moveTo>
                  <a:pt x="2" y="0"/>
                </a:moveTo>
                <a:cubicBezTo>
                  <a:pt x="2" y="26"/>
                  <a:pt x="4" y="41"/>
                  <a:pt x="0" y="157"/>
                </a:cubicBezTo>
                <a:cubicBezTo>
                  <a:pt x="58" y="183"/>
                  <a:pt x="113" y="207"/>
                  <a:pt x="168" y="213"/>
                </a:cubicBezTo>
                <a:cubicBezTo>
                  <a:pt x="222" y="219"/>
                  <a:pt x="276" y="211"/>
                  <a:pt x="324" y="193"/>
                </a:cubicBezTo>
                <a:cubicBezTo>
                  <a:pt x="372" y="175"/>
                  <a:pt x="419" y="134"/>
                  <a:pt x="456" y="102"/>
                </a:cubicBezTo>
                <a:cubicBezTo>
                  <a:pt x="493" y="70"/>
                  <a:pt x="520" y="34"/>
                  <a:pt x="547" y="0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5194440" y="2143080"/>
            <a:ext cx="252360" cy="433440"/>
          </a:xfrm>
          <a:prstGeom prst="rect">
            <a:avLst/>
          </a:prstGeom>
          <a:blipFill rotWithShape="0">
            <a:blip r:embed="rId2">
              <a:alphaModFix amt="54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194440" y="2576520"/>
            <a:ext cx="360360" cy="863640"/>
          </a:xfrm>
          <a:custGeom>
            <a:avLst/>
            <a:gdLst/>
            <a:ahLst/>
            <a:rect l="l" t="t" r="r" b="b"/>
            <a:pathLst>
              <a:path w="227" h="544">
                <a:moveTo>
                  <a:pt x="0" y="544"/>
                </a:moveTo>
                <a:lnTo>
                  <a:pt x="0" y="0"/>
                </a:lnTo>
                <a:lnTo>
                  <a:pt x="227" y="0"/>
                </a:lnTo>
                <a:lnTo>
                  <a:pt x="0" y="54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5195880" y="214488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627520" y="214308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653080" y="24004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280120" y="1916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4913280" y="2241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627520" y="2464920"/>
            <a:ext cx="100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554440" y="2576520"/>
            <a:ext cx="997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411880" y="2935440"/>
            <a:ext cx="57456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429160" y="298296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2895480" y="3905280"/>
                <a:ext cx="4916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/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5" name=""/>
          <p:cNvSpPr/>
          <p:nvPr/>
        </p:nvSpPr>
        <p:spPr>
          <a:xfrm>
            <a:off x="2530440" y="270828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530440" y="2708280"/>
            <a:ext cx="28728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3681360" y="234792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5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3251160" y="2347920"/>
            <a:ext cx="71928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6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160800" y="2347920"/>
            <a:ext cx="88920" cy="1081080"/>
          </a:xfrm>
          <a:custGeom>
            <a:avLst/>
            <a:gdLst/>
            <a:ahLst/>
            <a:rect l="l" t="t" r="r" b="b"/>
            <a:pathLst>
              <a:path w="56" h="681">
                <a:moveTo>
                  <a:pt x="56" y="681"/>
                </a:moveTo>
                <a:lnTo>
                  <a:pt x="0" y="224"/>
                </a:lnTo>
                <a:lnTo>
                  <a:pt x="56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530440" y="270828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8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259080" y="234792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3357720" y="2898720"/>
            <a:ext cx="45072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348000" y="2905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551400" y="21114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922560" y="2509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314440" y="28321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673360" y="24796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852640" y="247968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914400" y="3755880"/>
                <a:ext cx="2035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5" dur="indefinite" restart="never" nodeType="tmRoot">
          <p:childTnLst>
            <p:seq>
              <p:cTn id="3486" dur="indefinite" nodeType="mainSeq">
                <p:childTnLst>
                  <p:par>
                    <p:cTn id="3487" fill="hold">
                      <p:stCondLst>
                        <p:cond delay="0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1" dur="500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2" fill="hold">
                            <p:stCondLst>
                              <p:cond delay="500"/>
                            </p:stCondLst>
                            <p:childTnLst>
                              <p:par>
                                <p:cTn id="3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5" dur="500"/>
                                        <p:tgtEl>
                                          <p:spTgt spid="1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9" dur="80"/>
                                        <p:tgtEl>
                                          <p:spTgt spid="1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0" dur="80"/>
                                        <p:tgtEl>
                                          <p:spTgt spid="1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1" dur="80"/>
                                        <p:tgtEl>
                                          <p:spTgt spid="1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1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8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4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9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1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7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66560" y="1038240"/>
            <a:ext cx="82090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Система канонических уравнений МС и их реш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ение  основных неизве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611280" y="1628640"/>
                <a:ext cx="360036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6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65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4356000" y="1844640"/>
            <a:ext cx="503280" cy="792360"/>
          </a:xfrm>
          <a:prstGeom prst="rightArrow">
            <a:avLst>
              <a:gd name="adj1" fmla="val 43491"/>
              <a:gd name="adj2" fmla="val 50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5003640" y="1639800"/>
                <a:ext cx="2953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9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22200" y="2884320"/>
                <a:ext cx="55450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5870520" y="3487680"/>
                <a:ext cx="2803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кН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8" name=""/>
          <p:cNvSpPr/>
          <p:nvPr/>
        </p:nvSpPr>
        <p:spPr>
          <a:xfrm>
            <a:off x="468360" y="4930920"/>
            <a:ext cx="8209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Определение искомых усилий в рассчитываемой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1212840" y="5286240"/>
                <a:ext cx="67914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8" dur="indefinite" restart="never" nodeType="tmRoot">
          <p:childTnLst>
            <p:seq>
              <p:cTn id="3529" dur="indefinite" nodeType="mainSeq">
                <p:childTnLst>
                  <p:par>
                    <p:cTn id="3530" fill="hold">
                      <p:stCondLst>
                        <p:cond delay="0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4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5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6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1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8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0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3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5" dur="10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0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2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7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2" dur="10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9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1" dur="1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в  м а т р и ч н о й  ф о р м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02888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анонические уравнения метода сил (КУМС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84464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ы КУМС (единичные перемещения в ОСМС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666880" y="2162160"/>
                <a:ext cx="189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5005440" y="2209680"/>
            <a:ext cx="1727280" cy="432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2000" y="2154240"/>
                <a:ext cx="20718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20600" y="3828960"/>
            <a:ext cx="8866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бодные члены КУМ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еремещения в ОСМС от заданных воздействий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452760" y="4254480"/>
                <a:ext cx="21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116000" y="4818240"/>
                <a:ext cx="1971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64000" y="4818240"/>
                <a:ext cx="1887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 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57920" y="4830840"/>
                <a:ext cx="2674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,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4140360" y="4759200"/>
            <a:ext cx="1440" cy="21600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47880" y="4724280"/>
            <a:ext cx="2292480" cy="165240"/>
          </a:xfrm>
          <a:custGeom>
            <a:avLst/>
            <a:gdLst/>
            <a:ahLst/>
            <a:rect l="l" t="t" r="r" b="b"/>
            <a:pathLst>
              <a:path w="1444" h="104">
                <a:moveTo>
                  <a:pt x="1444" y="0"/>
                </a:moveTo>
                <a:lnTo>
                  <a:pt x="1440" y="60"/>
                </a:lnTo>
                <a:lnTo>
                  <a:pt x="0" y="60"/>
                </a:lnTo>
                <a:lnTo>
                  <a:pt x="0" y="1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40360" y="4819680"/>
            <a:ext cx="2303280" cy="69840"/>
          </a:xfrm>
          <a:custGeom>
            <a:avLst/>
            <a:gdLst/>
            <a:ahLst/>
            <a:rect l="l" t="t" r="r" b="b"/>
            <a:pathLst>
              <a:path w="1444" h="44">
                <a:moveTo>
                  <a:pt x="1444" y="0"/>
                </a:moveTo>
                <a:lnTo>
                  <a:pt x="0" y="0"/>
                </a:lnTo>
                <a:lnTo>
                  <a:pt x="0" y="44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716000" y="1707840"/>
            <a:ext cx="203040" cy="7455240"/>
          </a:xfrm>
          <a:custGeom>
            <a:avLst/>
            <a:gdLst>
              <a:gd name="textAreaLeft" fmla="*/ 0 w 203040"/>
              <a:gd name="textAreaRight" fmla="*/ 73440 w 203040"/>
              <a:gd name="textAreaTop" fmla="*/ 194400 h 7455240"/>
              <a:gd name="textAreaBottom" fmla="*/ 7260840 h 745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448"/>
                </a:lnTo>
                <a:cubicBezTo>
                  <a:pt x="10800" y="11348"/>
                  <a:pt x="16200" y="12248"/>
                  <a:pt x="21600" y="12248"/>
                </a:cubicBezTo>
                <a:cubicBezTo>
                  <a:pt x="16200" y="12248"/>
                  <a:pt x="10800" y="13148"/>
                  <a:pt x="10800" y="1404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60600" y="5587920"/>
            <a:ext cx="2159280" cy="432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98840" y="5541840"/>
                <a:ext cx="1971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419640" y="1366920"/>
            <a:ext cx="2232000" cy="431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492360" y="1325520"/>
                <a:ext cx="21020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95280" y="2637000"/>
            <a:ext cx="568944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,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екторы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сили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в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асчётны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ече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асчётных  участков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СМС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м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-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диничных состояниях (от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67600" y="2598840"/>
            <a:ext cx="2638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атрица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си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единич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стояниях ОСМ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9720" y="33735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атрица внутренней упругой податливости ОСМ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958000" y="5537160"/>
                <a:ext cx="13762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Δ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345440" y="5478480"/>
                <a:ext cx="1495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843280" y="6105600"/>
            <a:ext cx="311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g [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 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–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179360" y="249228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1908000" y="213192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1179360" y="2492280"/>
            <a:ext cx="17964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1722600" y="2138400"/>
            <a:ext cx="179280" cy="1079640"/>
          </a:xfrm>
          <a:custGeom>
            <a:avLst/>
            <a:gdLst/>
            <a:ahLst/>
            <a:rect l="l" t="t" r="r" b="b"/>
            <a:pathLst>
              <a:path w="182" h="680">
                <a:moveTo>
                  <a:pt x="182" y="680"/>
                </a:moveTo>
                <a:lnTo>
                  <a:pt x="0" y="227"/>
                </a:lnTo>
                <a:lnTo>
                  <a:pt x="0" y="0"/>
                </a:lnTo>
                <a:lnTo>
                  <a:pt x="182" y="0"/>
                </a:lnTo>
                <a:lnTo>
                  <a:pt x="182" y="68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179360" y="2492280"/>
            <a:ext cx="720720" cy="17964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906560" y="1954080"/>
            <a:ext cx="719280" cy="179640"/>
          </a:xfrm>
          <a:custGeom>
            <a:avLst/>
            <a:gdLst/>
            <a:ahLst/>
            <a:rect l="l" t="t" r="r" b="b"/>
            <a:pathLst>
              <a:path w="453" h="182">
                <a:moveTo>
                  <a:pt x="0" y="182"/>
                </a:moveTo>
                <a:lnTo>
                  <a:pt x="0" y="0"/>
                </a:lnTo>
                <a:lnTo>
                  <a:pt x="453" y="182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415880" y="187164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919160" y="2749680"/>
            <a:ext cx="68436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860480" y="27558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610080" y="2481120"/>
            <a:ext cx="71892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338720" y="2120760"/>
            <a:ext cx="71892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4157640" y="2133720"/>
            <a:ext cx="179280" cy="10666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338720" y="1947960"/>
            <a:ext cx="718920" cy="17928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057640" y="2133720"/>
            <a:ext cx="179640" cy="10540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283520" y="2362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132600" y="234936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991200" y="1916280"/>
            <a:ext cx="868680" cy="347400"/>
          </a:xfrm>
          <a:custGeom>
            <a:avLst/>
            <a:gdLst/>
            <a:ahLst/>
            <a:rect l="l" t="t" r="r" b="b"/>
            <a:pathLst>
              <a:path w="547" h="219">
                <a:moveTo>
                  <a:pt x="2" y="0"/>
                </a:moveTo>
                <a:cubicBezTo>
                  <a:pt x="2" y="26"/>
                  <a:pt x="4" y="41"/>
                  <a:pt x="0" y="157"/>
                </a:cubicBezTo>
                <a:cubicBezTo>
                  <a:pt x="58" y="183"/>
                  <a:pt x="113" y="207"/>
                  <a:pt x="168" y="213"/>
                </a:cubicBezTo>
                <a:cubicBezTo>
                  <a:pt x="222" y="219"/>
                  <a:pt x="276" y="211"/>
                  <a:pt x="324" y="193"/>
                </a:cubicBezTo>
                <a:cubicBezTo>
                  <a:pt x="372" y="175"/>
                  <a:pt x="419" y="134"/>
                  <a:pt x="456" y="102"/>
                </a:cubicBezTo>
                <a:cubicBezTo>
                  <a:pt x="493" y="70"/>
                  <a:pt x="520" y="34"/>
                  <a:pt x="547" y="0"/>
                </a:cubicBez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6994440" y="1916280"/>
            <a:ext cx="252360" cy="433080"/>
          </a:xfrm>
          <a:prstGeom prst="rect">
            <a:avLst/>
          </a:prstGeom>
          <a:blipFill rotWithShape="0">
            <a:blip r:embed="rId9">
              <a:alphaModFix amt="54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994440" y="2349360"/>
            <a:ext cx="360360" cy="863640"/>
          </a:xfrm>
          <a:custGeom>
            <a:avLst/>
            <a:gdLst/>
            <a:ahLst/>
            <a:rect l="l" t="t" r="r" b="b"/>
            <a:pathLst>
              <a:path w="227" h="544">
                <a:moveTo>
                  <a:pt x="0" y="544"/>
                </a:moveTo>
                <a:lnTo>
                  <a:pt x="0" y="0"/>
                </a:lnTo>
                <a:lnTo>
                  <a:pt x="227" y="0"/>
                </a:lnTo>
                <a:lnTo>
                  <a:pt x="0" y="544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996240" y="191772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7427880" y="1916280"/>
            <a:ext cx="0" cy="32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7453440" y="21733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080120" y="16891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713640" y="20145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 flipV="1">
            <a:off x="7427880" y="2238480"/>
            <a:ext cx="100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 flipV="1">
            <a:off x="7354800" y="2349000"/>
            <a:ext cx="100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7211880" y="2708280"/>
            <a:ext cx="57492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7229520" y="2755800"/>
            <a:ext cx="60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1116000" y="223668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06320" y="251316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43360" y="187632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,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006880" y="187164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,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356000" y="2766960"/>
            <a:ext cx="68436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297320" y="276084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rot="16200000">
            <a:off x="1206360" y="3519360"/>
            <a:ext cx="684000" cy="144360"/>
          </a:xfrm>
          <a:prstGeom prst="leftArrow">
            <a:avLst>
              <a:gd name="adj1" fmla="val 50000"/>
              <a:gd name="adj2" fmla="val 1184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rot="19779600">
            <a:off x="2123640" y="3357360"/>
            <a:ext cx="1546200" cy="183960"/>
          </a:xfrm>
          <a:prstGeom prst="leftArrow">
            <a:avLst>
              <a:gd name="adj1" fmla="val 37491"/>
              <a:gd name="adj2" fmla="val 1309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rot="20649000">
            <a:off x="3058920" y="3429000"/>
            <a:ext cx="2985840" cy="193680"/>
          </a:xfrm>
          <a:prstGeom prst="leftArrow">
            <a:avLst>
              <a:gd name="adj1" fmla="val 36519"/>
              <a:gd name="adj2" fmla="val 1754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84360" y="5084640"/>
            <a:ext cx="1008000" cy="1008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84360" y="5084640"/>
            <a:ext cx="360360" cy="100836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84360" y="5084640"/>
            <a:ext cx="1008000" cy="36036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12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690560" y="5084640"/>
            <a:ext cx="360360" cy="100836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700360" y="4581360"/>
            <a:ext cx="360360" cy="1511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587600" y="4581360"/>
            <a:ext cx="145800" cy="503280"/>
          </a:xfrm>
          <a:custGeom>
            <a:avLst/>
            <a:gdLst/>
            <a:ahLst/>
            <a:rect l="l" t="t" r="r" b="b"/>
            <a:pathLst>
              <a:path w="92" h="317">
                <a:moveTo>
                  <a:pt x="66" y="317"/>
                </a:moveTo>
                <a:lnTo>
                  <a:pt x="92" y="314"/>
                </a:lnTo>
                <a:lnTo>
                  <a:pt x="0" y="2"/>
                </a:lnTo>
                <a:lnTo>
                  <a:pt x="66" y="0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692360" y="4241880"/>
            <a:ext cx="1008000" cy="726840"/>
          </a:xfrm>
          <a:custGeom>
            <a:avLst/>
            <a:gdLst/>
            <a:ahLst/>
            <a:rect l="l" t="t" r="r" b="b"/>
            <a:pathLst>
              <a:path w="635" h="458">
                <a:moveTo>
                  <a:pt x="0" y="214"/>
                </a:moveTo>
                <a:cubicBezTo>
                  <a:pt x="0" y="201"/>
                  <a:pt x="2" y="196"/>
                  <a:pt x="2" y="136"/>
                </a:cubicBezTo>
                <a:cubicBezTo>
                  <a:pt x="36" y="213"/>
                  <a:pt x="47" y="227"/>
                  <a:pt x="66" y="260"/>
                </a:cubicBezTo>
                <a:cubicBezTo>
                  <a:pt x="87" y="297"/>
                  <a:pt x="103" y="327"/>
                  <a:pt x="130" y="356"/>
                </a:cubicBezTo>
                <a:cubicBezTo>
                  <a:pt x="157" y="385"/>
                  <a:pt x="189" y="417"/>
                  <a:pt x="226" y="432"/>
                </a:cubicBezTo>
                <a:cubicBezTo>
                  <a:pt x="263" y="447"/>
                  <a:pt x="313" y="458"/>
                  <a:pt x="354" y="448"/>
                </a:cubicBezTo>
                <a:cubicBezTo>
                  <a:pt x="395" y="438"/>
                  <a:pt x="440" y="408"/>
                  <a:pt x="474" y="372"/>
                </a:cubicBezTo>
                <a:cubicBezTo>
                  <a:pt x="508" y="336"/>
                  <a:pt x="531" y="294"/>
                  <a:pt x="558" y="232"/>
                </a:cubicBezTo>
                <a:cubicBezTo>
                  <a:pt x="585" y="170"/>
                  <a:pt x="606" y="100"/>
                  <a:pt x="634" y="0"/>
                </a:cubicBezTo>
                <a:cubicBezTo>
                  <a:pt x="634" y="124"/>
                  <a:pt x="635" y="170"/>
                  <a:pt x="635" y="214"/>
                </a:cubicBez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692360" y="4581360"/>
            <a:ext cx="1008000" cy="1511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819000" y="478476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217440" y="530532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932120" y="518328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212840" y="434016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,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78040" y="426708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,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195640" y="45878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2050920" y="490680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,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2050920" y="5078520"/>
            <a:ext cx="7308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644480" y="4843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,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986120" y="5516640"/>
            <a:ext cx="50292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027160" y="5565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1835280" y="59500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2160720" y="896760"/>
                <a:ext cx="5038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0" name=""/>
          <p:cNvSpPr/>
          <p:nvPr/>
        </p:nvSpPr>
        <p:spPr>
          <a:xfrm>
            <a:off x="3492360" y="5084640"/>
            <a:ext cx="1008360" cy="1008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2556000" y="6211800"/>
            <a:ext cx="2303280" cy="360360"/>
          </a:xfrm>
          <a:custGeom>
            <a:avLst/>
            <a:gdLst>
              <a:gd name="textAreaLeft" fmla="*/ 466560 w 2303280"/>
              <a:gd name="textAreaRight" fmla="*/ 1670040 w 230328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753" hR="21600" stAng="10800000" swAng="-5400000"/>
                <a:lnTo>
                  <a:pt x="11284" y="21600"/>
                </a:lnTo>
                <a:arcTo wR="8753" hR="21600" stAng="5400000" swAng="-2699319"/>
                <a:lnTo>
                  <a:pt x="20959" y="8115"/>
                </a:lnTo>
                <a:lnTo>
                  <a:pt x="18772" y="0"/>
                </a:lnTo>
                <a:lnTo>
                  <a:pt x="15302" y="8115"/>
                </a:lnTo>
                <a:lnTo>
                  <a:pt x="16865" y="8115"/>
                </a:lnTo>
                <a:arcTo wR="8753" hR="21600" stAng="2700681" swAng="2496007"/>
                <a:lnTo>
                  <a:pt x="10019" y="21373"/>
                </a:lnTo>
                <a:arcTo wR="8753" hR="21600" stAng="5603312" swAng="5196688"/>
                <a:close/>
              </a:path>
              <a:path fill="darkenLess" w="21600" h="21600">
                <a:moveTo>
                  <a:pt x="0" y="0"/>
                </a:moveTo>
                <a:arcTo wR="8753" hR="21600" stAng="10800000" swAng="-5400000"/>
                <a:lnTo>
                  <a:pt x="11284" y="21600"/>
                </a:lnTo>
                <a:arcTo wR="8753" hR="21600" stAng="5400000" swAng="203312"/>
                <a:lnTo>
                  <a:pt x="10019" y="21373"/>
                </a:lnTo>
                <a:arcTo wR="8753" hR="21600" stAng="5603312" swAng="519668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500720" y="4076640"/>
            <a:ext cx="1008000" cy="1079640"/>
          </a:xfrm>
          <a:custGeom>
            <a:avLst/>
            <a:gdLst/>
            <a:ahLst/>
            <a:rect l="l" t="t" r="r" b="b"/>
            <a:pathLst>
              <a:path w="635" h="589">
                <a:moveTo>
                  <a:pt x="0" y="272"/>
                </a:moveTo>
                <a:lnTo>
                  <a:pt x="0" y="0"/>
                </a:lnTo>
                <a:lnTo>
                  <a:pt x="635" y="589"/>
                </a:lnTo>
                <a:lnTo>
                  <a:pt x="635" y="272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349800" y="5084640"/>
            <a:ext cx="142560" cy="10083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357800" y="5084640"/>
            <a:ext cx="142920" cy="1008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492360" y="5086440"/>
            <a:ext cx="1008360" cy="142920"/>
          </a:xfrm>
          <a:prstGeom prst="rect">
            <a:avLst/>
          </a:prstGeom>
          <a:blipFill rotWithShape="0">
            <a:blip r:embed="rId20">
              <a:alphaModFix amt="48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396040" y="4581360"/>
            <a:ext cx="108000" cy="1511640"/>
          </a:xfrm>
          <a:prstGeom prst="rect">
            <a:avLst/>
          </a:prstGeom>
          <a:blipFill rotWithShape="0">
            <a:blip r:embed="rId21">
              <a:alphaModFix amt="51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500720" y="4581360"/>
            <a:ext cx="1008000" cy="1511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503600" y="4581360"/>
            <a:ext cx="108000" cy="503280"/>
          </a:xfrm>
          <a:prstGeom prst="rect">
            <a:avLst/>
          </a:prstGeom>
          <a:blipFill rotWithShape="0">
            <a:blip r:embed="rId22">
              <a:alphaModFix amt="51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565520" y="4346640"/>
            <a:ext cx="14472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360600" y="5541840"/>
            <a:ext cx="119160" cy="1191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375080" y="5548320"/>
            <a:ext cx="119160" cy="1191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389560" y="5373720"/>
            <a:ext cx="119160" cy="1191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898800" y="5084640"/>
            <a:ext cx="142920" cy="14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214960" y="466740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500720" y="4768920"/>
            <a:ext cx="10764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514760" y="482292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917880" y="51577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237280" y="47372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668840" y="5516640"/>
            <a:ext cx="50328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735440" y="5553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13400" y="59562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к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3276720" y="4238640"/>
                <a:ext cx="1079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3" name=""/>
          <p:cNvSpPr/>
          <p:nvPr/>
        </p:nvSpPr>
        <p:spPr>
          <a:xfrm>
            <a:off x="4253040" y="382284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5473800" y="501336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708360" y="5195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191040" y="60595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021200" y="6046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232240" y="60548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584600" y="48690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300720" y="5084640"/>
            <a:ext cx="1008000" cy="1008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7308720" y="4581360"/>
            <a:ext cx="1008360" cy="1511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317080" y="4581360"/>
            <a:ext cx="431640" cy="1511640"/>
          </a:xfrm>
          <a:prstGeom prst="rect">
            <a:avLst/>
          </a:prstGeom>
          <a:blipFill rotWithShape="0">
            <a:blip r:embed="rId23">
              <a:alphaModFix amt="51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7308720" y="5084640"/>
            <a:ext cx="395280" cy="1008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305840" y="4581360"/>
            <a:ext cx="323640" cy="503280"/>
          </a:xfrm>
          <a:prstGeom prst="rect">
            <a:avLst/>
          </a:prstGeom>
          <a:blipFill rotWithShape="0">
            <a:blip r:embed="rId25">
              <a:alphaModFix amt="51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192720" y="5084640"/>
            <a:ext cx="108000" cy="10083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300720" y="5084640"/>
            <a:ext cx="1008000" cy="130320"/>
          </a:xfrm>
          <a:prstGeom prst="rect">
            <a:avLst/>
          </a:prstGeom>
          <a:blipFill rotWithShape="0">
            <a:blip r:embed="rId27">
              <a:alphaModFix amt="48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7308720" y="4581360"/>
            <a:ext cx="1008360" cy="71640"/>
          </a:xfrm>
          <a:prstGeom prst="rect">
            <a:avLst/>
          </a:prstGeom>
          <a:blipFill rotWithShape="0">
            <a:blip r:embed="rId28">
              <a:alphaModFix amt="48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7743960" y="5516640"/>
            <a:ext cx="50328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10560" y="555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7688160" y="595620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к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188040" y="5541840"/>
            <a:ext cx="119160" cy="11916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8459640" y="525636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8481960" y="53262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7427880" y="5288040"/>
            <a:ext cx="14292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7450200" y="53578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750000" y="509580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764400" y="514980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7780320" y="456876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794720" y="462276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012000" y="60469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559560" y="5183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7751880" y="46069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8379000" y="605304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7236000" y="605304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7164360" y="419400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89800" y="4437000"/>
            <a:ext cx="14292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5149800" y="3859920"/>
            <a:ext cx="2014560" cy="576360"/>
          </a:xfrm>
          <a:custGeom>
            <a:avLst/>
            <a:gdLst>
              <a:gd name="textAreaLeft" fmla="*/ 426600 w 2014560"/>
              <a:gd name="textAreaRight" fmla="*/ 1414800 w 201456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49" hR="21600" stAng="10800000" swAng="-5400000"/>
                <a:lnTo>
                  <a:pt x="10595" y="21600"/>
                </a:lnTo>
                <a:arcTo wR="9149" hR="21600" stAng="5400000" swAng="-2637447"/>
                <a:lnTo>
                  <a:pt x="20827" y="8687"/>
                </a:lnTo>
                <a:lnTo>
                  <a:pt x="19021" y="0"/>
                </a:lnTo>
                <a:lnTo>
                  <a:pt x="15669" y="8687"/>
                </a:lnTo>
                <a:lnTo>
                  <a:pt x="17525" y="8687"/>
                </a:lnTo>
                <a:arcTo wR="9149" hR="21600" stAng="2762553" swAng="2522060"/>
                <a:lnTo>
                  <a:pt x="9872" y="21532"/>
                </a:lnTo>
                <a:arcTo wR="9149" hR="21600" stAng="5515387" swAng="5284613"/>
                <a:close/>
              </a:path>
              <a:path fill="darkenLess" w="21600" h="21600">
                <a:moveTo>
                  <a:pt x="0" y="0"/>
                </a:moveTo>
                <a:arcTo wR="9149" hR="21600" stAng="10800000" swAng="-5400000"/>
                <a:lnTo>
                  <a:pt x="10595" y="21600"/>
                </a:lnTo>
                <a:arcTo wR="9149" hR="21600" stAng="5400000" swAng="115387"/>
                <a:lnTo>
                  <a:pt x="9872" y="21532"/>
                </a:lnTo>
                <a:arcTo wR="9149" hR="21600" stAng="5515387" swAng="528461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fill="hold">
                      <p:stCondLst>
                        <p:cond delay="0"/>
                      </p:stCondLst>
                      <p:childTnLst>
                        <p:par>
                          <p:cTn id="3585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8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0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5" dur="2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8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1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4" dur="2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7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0" dur="2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3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6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9" dur="2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2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5" dur="2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9" dur="2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2" dur="2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5" dur="2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8" dur="2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1" dur="2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4" dur="2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7" dur="2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0" dur="2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3" dur="2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7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0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3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6" dur="2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9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2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5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8" dur="2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1" dur="2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4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7" dur="2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0" dur="2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3" dur="2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6" dur="2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3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6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8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1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3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7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0" dur="2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3" dur="2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6" dur="20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9" dur="2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2" dur="2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5" dur="2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8" dur="2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1" dur="2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7" dur="2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0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6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9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2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5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8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1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4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1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4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1" fill="hold">
                      <p:stCondLst>
                        <p:cond delay="indefinite"/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2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5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7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2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5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6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7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0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1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2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5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7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0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1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2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6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7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2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6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7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0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1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2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6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7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2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5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6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7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7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2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5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6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7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0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1" dur="1000" fill="hold"/>
                                        <p:tgtEl>
                                          <p:spTgt spid="1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2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5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6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7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0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1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2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7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0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1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2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5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7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0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2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7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2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5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6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7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8" fill="hold">
                      <p:stCondLst>
                        <p:cond delay="indefinite"/>
                      </p:stCondLst>
                      <p:childTnLst>
                        <p:par>
                          <p:cTn id="3939" fill="hold">
                            <p:stCondLst>
                              <p:cond delay="0"/>
                            </p:stCondLst>
                            <p:childTnLst>
                              <p:par>
                                <p:cTn id="39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0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1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2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7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2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5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6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7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0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2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0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1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2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7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0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1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2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5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6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7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0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2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5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7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0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1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2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5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6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7" dur="1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1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2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5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6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7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0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2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7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0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1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2" dur="1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7" dur="10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0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1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2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5" dur="1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6" dur="10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7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0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1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2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5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10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7" dur="10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0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1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2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5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6" dur="1000" fill="hold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7" dur="10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0" dur="1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1000" fill="hold"/>
                                        <p:tgtEl>
                                          <p:spTgt spid="1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2" dur="10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484360" y="1038240"/>
            <a:ext cx="4319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1. Проверка результатов расчё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268360" y="1341360"/>
            <a:ext cx="1366920" cy="287280"/>
          </a:xfrm>
          <a:custGeom>
            <a:avLst/>
            <a:gdLst/>
            <a:ahLst/>
            <a:rect l="l" t="t" r="r" b="b"/>
            <a:pathLst>
              <a:path w="861" h="181">
                <a:moveTo>
                  <a:pt x="861" y="0"/>
                </a:moveTo>
                <a:lnTo>
                  <a:pt x="861" y="90"/>
                </a:lnTo>
                <a:lnTo>
                  <a:pt x="0" y="90"/>
                </a:lnTo>
                <a:lnTo>
                  <a:pt x="0" y="181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5723640" y="1341360"/>
            <a:ext cx="1366920" cy="287280"/>
          </a:xfrm>
          <a:custGeom>
            <a:avLst/>
            <a:gdLst/>
            <a:ahLst/>
            <a:rect l="l" t="t" r="r" b="b"/>
            <a:pathLst>
              <a:path w="861" h="181">
                <a:moveTo>
                  <a:pt x="861" y="0"/>
                </a:moveTo>
                <a:lnTo>
                  <a:pt x="861" y="90"/>
                </a:lnTo>
                <a:lnTo>
                  <a:pt x="0" y="90"/>
                </a:lnTo>
                <a:lnTo>
                  <a:pt x="0" y="181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4360" y="1589040"/>
            <a:ext cx="3240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Статическая 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219640" y="1585800"/>
            <a:ext cx="367344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инема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деформационная) 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4572000" y="1413000"/>
            <a:ext cx="0" cy="51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39640" y="1844640"/>
            <a:ext cx="1728720" cy="432000"/>
          </a:xfrm>
          <a:custGeom>
            <a:avLst/>
            <a:gdLst/>
            <a:ahLst/>
            <a:rect l="l" t="t" r="r" b="b"/>
            <a:pathLst>
              <a:path w="1089" h="272">
                <a:moveTo>
                  <a:pt x="1089" y="0"/>
                </a:moveTo>
                <a:lnTo>
                  <a:pt x="1089" y="91"/>
                </a:lnTo>
                <a:lnTo>
                  <a:pt x="0" y="91"/>
                </a:lnTo>
                <a:lnTo>
                  <a:pt x="0" y="272"/>
                </a:lnTo>
                <a:lnTo>
                  <a:pt x="136" y="272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755640" y="2060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роверка равновесия системы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042920" y="4149720"/>
            <a:ext cx="1441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042920" y="400536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484360" y="400536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763640" y="400536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68360" y="371628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68360" y="263700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68360" y="301140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39640" y="2638440"/>
            <a:ext cx="0" cy="1077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1009800" y="41054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1724040" y="411480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 flipV="1">
            <a:off x="2449440" y="41212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06520" y="2603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1480" y="29718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01480" y="367812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908000" y="3933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57120" y="26701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206360" y="3933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1691280" y="287748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755640" y="27417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725480" y="3135240"/>
            <a:ext cx="8654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763640" y="2986200"/>
            <a:ext cx="71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755640" y="2997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766880" y="2476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917720" y="2476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060640" y="2482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185920" y="2482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328840" y="2482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479680" y="2482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763640" y="24811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349200" y="32068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036800" y="2997360"/>
            <a:ext cx="718920" cy="71892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1765440" y="2637000"/>
            <a:ext cx="718920" cy="1079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684440" y="295920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flipH="1">
            <a:off x="104292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H="1">
            <a:off x="176364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H="1">
            <a:off x="2484360" y="3716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1036800" y="3728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1763640" y="371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2484360" y="3716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446200" y="23875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9720" y="376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449440" y="376704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730520" y="375768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1187280" y="35672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903320" y="35733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652840" y="357192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4" name=""/>
              <p:cNvSpPr txBox="1"/>
              <p:nvPr/>
            </p:nvSpPr>
            <p:spPr>
              <a:xfrm>
                <a:off x="3132000" y="2637000"/>
                <a:ext cx="7192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3139920" y="2924280"/>
                <a:ext cx="703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3059280" y="37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492360" y="35449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V="1">
            <a:off x="1035000" y="24908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09720" y="224784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3035160" y="3213000"/>
                <a:ext cx="1390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,02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1" name=""/>
          <p:cNvSpPr/>
          <p:nvPr/>
        </p:nvSpPr>
        <p:spPr>
          <a:xfrm>
            <a:off x="1509840" y="2468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39640" y="2276640"/>
            <a:ext cx="216000" cy="216036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684360" y="427356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роверка равновесия уз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1640" y="519588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0" y="181"/>
                </a:moveTo>
                <a:lnTo>
                  <a:pt x="0" y="0"/>
                </a:lnTo>
                <a:lnTo>
                  <a:pt x="1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2158920" y="5203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2384280" y="5003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298600" y="51609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065400" y="479736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0" y="181"/>
                </a:moveTo>
                <a:lnTo>
                  <a:pt x="0" y="0"/>
                </a:lnTo>
                <a:lnTo>
                  <a:pt x="1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4092480" y="479736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0" y="181"/>
                </a:moveTo>
                <a:lnTo>
                  <a:pt x="0" y="0"/>
                </a:lnTo>
                <a:lnTo>
                  <a:pt x="1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V="1">
            <a:off x="2286000" y="508248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365200" y="5184720"/>
            <a:ext cx="716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682560" y="51958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flipH="1">
            <a:off x="4200480" y="51166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2206440" y="5465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024360" y="51166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 flipH="1">
            <a:off x="787320" y="5508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1312920" y="5195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855960" y="479736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3378240" y="4797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 flipH="1">
            <a:off x="2212920" y="4975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905120" y="51973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4379760" y="51260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3063960" y="51260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 flipV="1">
            <a:off x="2384280" y="54705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971640" y="5522760"/>
            <a:ext cx="0" cy="26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384280" y="4653000"/>
            <a:ext cx="1800" cy="31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871640" y="53640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25600" y="5313240"/>
            <a:ext cx="47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73120" y="4971960"/>
            <a:ext cx="64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1290600" y="5013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130480" y="51544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140360" y="5348160"/>
            <a:ext cx="46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146320" y="568656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887640" y="442440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5,9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841480" y="5342040"/>
            <a:ext cx="5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379680" y="4654440"/>
            <a:ext cx="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065480" y="4621320"/>
            <a:ext cx="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968560" y="4524480"/>
            <a:ext cx="65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521160" y="46656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319480" y="454968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077840" y="482112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792000" y="569592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482840" y="50626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156120" y="5002200"/>
            <a:ext cx="47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882960" y="5000760"/>
            <a:ext cx="4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776240" y="522936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 flipV="1" rot="15099600">
            <a:off x="4217760" y="5033160"/>
            <a:ext cx="2854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 flipH="1" flipV="1" rot="15580800">
            <a:off x="2220120" y="5396760"/>
            <a:ext cx="28548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 flipH="1" flipV="1" rot="14911800">
            <a:off x="810720" y="5359320"/>
            <a:ext cx="285480" cy="254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 flipV="1" rot="16368600">
            <a:off x="2234160" y="481248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20" y="54"/>
                </a:moveTo>
                <a:arcTo wR="10800" hR="10800" stAng="-5744219" swAng="10698377"/>
                <a:lnTo>
                  <a:pt x="10800" y="10800"/>
                </a:lnTo>
                <a:close/>
              </a:path>
              <a:path fill="none" w="21600" h="21600">
                <a:moveTo>
                  <a:pt x="9720" y="54"/>
                </a:moveTo>
                <a:arcTo wR="10800" hR="10800" stAng="-5744219" swAng="10698377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1183320" y="506016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flipV="1" rot="6705600">
            <a:off x="2946240" y="504108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84" y="1326"/>
                </a:moveTo>
                <a:arcTo wR="10800" hR="10800" stAng="-3678773" swAng="8632931"/>
                <a:lnTo>
                  <a:pt x="10800" y="10800"/>
                </a:lnTo>
                <a:close/>
              </a:path>
              <a:path fill="none" w="21600" h="21600">
                <a:moveTo>
                  <a:pt x="15984" y="1326"/>
                </a:moveTo>
                <a:arcTo wR="10800" hR="10800" stAng="-3678773" swAng="8632931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flipV="1" rot="11326800">
            <a:off x="3898440" y="4683600"/>
            <a:ext cx="2887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27" y="463"/>
                </a:moveTo>
                <a:arcTo wR="10800" hR="10800" stAng="-4390224" swAng="9344382"/>
                <a:lnTo>
                  <a:pt x="10800" y="10800"/>
                </a:lnTo>
                <a:close/>
              </a:path>
              <a:path fill="none" w="21600" h="21600">
                <a:moveTo>
                  <a:pt x="13927" y="463"/>
                </a:moveTo>
                <a:arcTo wR="10800" hR="10800" stAng="-4390224" swAng="9344382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flipH="1" flipV="1" rot="11085000">
            <a:off x="3262680" y="4671360"/>
            <a:ext cx="28548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80" y="76"/>
                </a:moveTo>
                <a:arcTo wR="10800" hR="10800" stAng="-4991495" swAng="9945654"/>
                <a:lnTo>
                  <a:pt x="10800" y="10800"/>
                </a:lnTo>
                <a:close/>
              </a:path>
              <a:path fill="none" w="21600" h="21600">
                <a:moveTo>
                  <a:pt x="12080" y="76"/>
                </a:moveTo>
                <a:arcTo wR="10800" hR="10800" stAng="-4991495" swAng="994565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2589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163600" y="51642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933480" y="54849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346480" y="50007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2346480" y="5438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455920" y="4916520"/>
            <a:ext cx="64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348000" y="47577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092480" y="47624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3025800" y="5084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343400" y="50832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996840" y="54403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1174680" y="52610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367080" y="44956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,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112920" y="514512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,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621240" y="4875120"/>
            <a:ext cx="50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7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849840" y="5162400"/>
            <a:ext cx="50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7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411280" y="548964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,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979640" y="4646520"/>
            <a:ext cx="43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,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39640" y="4437000"/>
            <a:ext cx="216000" cy="165600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lnTo>
                  <a:pt x="0" y="181"/>
                </a:lnTo>
                <a:lnTo>
                  <a:pt x="136" y="181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684360" y="5908680"/>
            <a:ext cx="25923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рове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вновесия ч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2841480" y="6175440"/>
            <a:ext cx="711360" cy="698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570120" y="5815080"/>
            <a:ext cx="714600" cy="423720"/>
          </a:xfrm>
          <a:custGeom>
            <a:avLst/>
            <a:gdLst/>
            <a:ahLst/>
            <a:rect l="l" t="t" r="r" b="b"/>
            <a:pathLst>
              <a:path w="450" h="267">
                <a:moveTo>
                  <a:pt x="0" y="267"/>
                </a:moveTo>
                <a:lnTo>
                  <a:pt x="0" y="0"/>
                </a:lnTo>
                <a:lnTo>
                  <a:pt x="448" y="0"/>
                </a:lnTo>
                <a:lnTo>
                  <a:pt x="450" y="4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487680" y="6137280"/>
            <a:ext cx="71640" cy="69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51280" y="5668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986280" y="5668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129200" y="56689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564000" y="56674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57336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273560" y="5670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718080" y="5665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V="1">
            <a:off x="3485160" y="6027120"/>
            <a:ext cx="28800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564000" y="613584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2544840" y="617868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 flipV="1">
            <a:off x="4284720" y="59198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 flipV="1">
            <a:off x="3564000" y="627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843280" y="6286680"/>
            <a:ext cx="0" cy="23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2681280" y="62769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 flipH="1">
            <a:off x="3376440" y="6273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4120920" y="59166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3656160" y="6180120"/>
            <a:ext cx="609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676680" y="545148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 flipH="1" flipV="1" rot="15410400">
            <a:off x="4130640" y="5838480"/>
            <a:ext cx="28512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 flipH="1" flipV="1" rot="17505000">
            <a:off x="3415680" y="6195240"/>
            <a:ext cx="28512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135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135004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 flipH="1" flipV="1" rot="14636400">
            <a:off x="2667600" y="6115680"/>
            <a:ext cx="285120" cy="25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02" y="1126"/>
                </a:moveTo>
                <a:arcTo wR="10800" hR="10800" stAng="-3816003" swAng="8770161"/>
                <a:lnTo>
                  <a:pt x="10800" y="10800"/>
                </a:lnTo>
                <a:close/>
              </a:path>
              <a:path fill="none" w="21600" h="21600">
                <a:moveTo>
                  <a:pt x="15602" y="1126"/>
                </a:moveTo>
                <a:arcTo wR="10800" hR="10800" stAng="-3816003" swAng="8770161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803680" y="62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3530520" y="623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245120" y="58831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2455920" y="5962680"/>
            <a:ext cx="64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3760920" y="5973840"/>
            <a:ext cx="50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47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92480" y="614988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98720" y="5802480"/>
            <a:ext cx="4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502080" y="6418440"/>
            <a:ext cx="65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044880" y="613728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3092400" y="637236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,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2665440" y="643104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346480" y="6162840"/>
            <a:ext cx="47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340000" y="6299280"/>
            <a:ext cx="5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295800" y="56293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324000" y="6350040"/>
                <a:ext cx="522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868320" y="6350040"/>
                <a:ext cx="517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1387440" y="6343560"/>
                <a:ext cx="9810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,0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6" name=""/>
          <p:cNvSpPr/>
          <p:nvPr/>
        </p:nvSpPr>
        <p:spPr>
          <a:xfrm>
            <a:off x="4788000" y="2133720"/>
            <a:ext cx="1224000" cy="431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4902120" y="2166840"/>
                <a:ext cx="990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5983200" y="2041560"/>
                <a:ext cx="28861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9" name=""/>
          <p:cNvSpPr/>
          <p:nvPr/>
        </p:nvSpPr>
        <p:spPr>
          <a:xfrm>
            <a:off x="4854600" y="3213000"/>
            <a:ext cx="719280" cy="71928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854600" y="3213000"/>
            <a:ext cx="287280" cy="719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>
            <a:off x="6005520" y="2852640"/>
            <a:ext cx="287280" cy="107964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2">
              <a:alphaModFix amt="53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5575320" y="2852640"/>
            <a:ext cx="71928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484960" y="2852640"/>
            <a:ext cx="88920" cy="1081080"/>
          </a:xfrm>
          <a:custGeom>
            <a:avLst/>
            <a:gdLst/>
            <a:ahLst/>
            <a:rect l="l" t="t" r="r" b="b"/>
            <a:pathLst>
              <a:path w="56" h="681">
                <a:moveTo>
                  <a:pt x="56" y="681"/>
                </a:moveTo>
                <a:lnTo>
                  <a:pt x="0" y="224"/>
                </a:lnTo>
                <a:lnTo>
                  <a:pt x="56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854600" y="3213000"/>
            <a:ext cx="720720" cy="28728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5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5583240" y="2852640"/>
            <a:ext cx="719280" cy="1079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681520" y="3403440"/>
            <a:ext cx="45108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672160" y="3409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648320" y="3357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997520" y="29844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176800" y="298440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877000" y="26179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246720" y="30099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429240" y="3813120"/>
            <a:ext cx="1008360" cy="100800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429240" y="3813120"/>
            <a:ext cx="360360" cy="100800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6429240" y="3813120"/>
            <a:ext cx="1008360" cy="360360"/>
          </a:xfrm>
          <a:custGeom>
            <a:avLst/>
            <a:gdLst/>
            <a:ahLst/>
            <a:rect l="l" t="t" r="r" b="b"/>
            <a:pathLst>
              <a:path w="454" h="136">
                <a:moveTo>
                  <a:pt x="454" y="0"/>
                </a:moveTo>
                <a:lnTo>
                  <a:pt x="0" y="0"/>
                </a:lnTo>
                <a:lnTo>
                  <a:pt x="0" y="136"/>
                </a:lnTo>
                <a:lnTo>
                  <a:pt x="454" y="0"/>
                </a:lnTo>
                <a:close/>
              </a:path>
            </a:pathLst>
          </a:custGeom>
          <a:blipFill rotWithShape="0">
            <a:blip r:embed="rId7">
              <a:alphaModFix amt="3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7435800" y="3813120"/>
            <a:ext cx="360360" cy="100800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8445600" y="3309840"/>
            <a:ext cx="360360" cy="1511280"/>
          </a:xfrm>
          <a:custGeom>
            <a:avLst/>
            <a:gdLst/>
            <a:ahLst/>
            <a:rect l="l" t="t" r="r" b="b"/>
            <a:pathLst>
              <a:path w="181" h="453">
                <a:moveTo>
                  <a:pt x="0" y="453"/>
                </a:moveTo>
                <a:lnTo>
                  <a:pt x="0" y="0"/>
                </a:lnTo>
                <a:lnTo>
                  <a:pt x="181" y="0"/>
                </a:lnTo>
                <a:lnTo>
                  <a:pt x="0" y="453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7332840" y="3309840"/>
            <a:ext cx="145800" cy="503280"/>
          </a:xfrm>
          <a:custGeom>
            <a:avLst/>
            <a:gdLst/>
            <a:ahLst/>
            <a:rect l="l" t="t" r="r" b="b"/>
            <a:pathLst>
              <a:path w="92" h="317">
                <a:moveTo>
                  <a:pt x="66" y="317"/>
                </a:moveTo>
                <a:lnTo>
                  <a:pt x="92" y="314"/>
                </a:lnTo>
                <a:lnTo>
                  <a:pt x="0" y="2"/>
                </a:lnTo>
                <a:lnTo>
                  <a:pt x="6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7437600" y="2967120"/>
            <a:ext cx="1008000" cy="730080"/>
          </a:xfrm>
          <a:custGeom>
            <a:avLst/>
            <a:gdLst/>
            <a:ahLst/>
            <a:rect l="l" t="t" r="r" b="b"/>
            <a:pathLst>
              <a:path w="635" h="460">
                <a:moveTo>
                  <a:pt x="0" y="216"/>
                </a:moveTo>
                <a:cubicBezTo>
                  <a:pt x="0" y="203"/>
                  <a:pt x="2" y="198"/>
                  <a:pt x="2" y="138"/>
                </a:cubicBezTo>
                <a:cubicBezTo>
                  <a:pt x="36" y="215"/>
                  <a:pt x="47" y="229"/>
                  <a:pt x="66" y="262"/>
                </a:cubicBezTo>
                <a:cubicBezTo>
                  <a:pt x="87" y="299"/>
                  <a:pt x="103" y="329"/>
                  <a:pt x="130" y="358"/>
                </a:cubicBezTo>
                <a:cubicBezTo>
                  <a:pt x="157" y="387"/>
                  <a:pt x="189" y="419"/>
                  <a:pt x="226" y="434"/>
                </a:cubicBezTo>
                <a:cubicBezTo>
                  <a:pt x="263" y="449"/>
                  <a:pt x="313" y="460"/>
                  <a:pt x="354" y="450"/>
                </a:cubicBezTo>
                <a:cubicBezTo>
                  <a:pt x="395" y="440"/>
                  <a:pt x="440" y="410"/>
                  <a:pt x="474" y="374"/>
                </a:cubicBezTo>
                <a:cubicBezTo>
                  <a:pt x="508" y="338"/>
                  <a:pt x="531" y="296"/>
                  <a:pt x="558" y="234"/>
                </a:cubicBezTo>
                <a:cubicBezTo>
                  <a:pt x="585" y="172"/>
                  <a:pt x="603" y="140"/>
                  <a:pt x="635" y="0"/>
                </a:cubicBezTo>
                <a:cubicBezTo>
                  <a:pt x="635" y="144"/>
                  <a:pt x="635" y="171"/>
                  <a:pt x="635" y="216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7437600" y="3309840"/>
            <a:ext cx="1008000" cy="1511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564240" y="351324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962680" y="403380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7677000" y="391176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,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958080" y="306864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,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8413920" y="2997360"/>
            <a:ext cx="6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,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940520" y="33163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796160" y="3635280"/>
            <a:ext cx="65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,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7796160" y="3807000"/>
            <a:ext cx="7308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389720" y="3571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,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731000" y="4245120"/>
            <a:ext cx="503280" cy="504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772400" y="42940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7580160" y="467820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384800" y="4508640"/>
                <a:ext cx="18936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Δ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175360" y="5114880"/>
                <a:ext cx="31986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,33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,33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,29</m:t>
                            </m:r>
                            <m:r>
                              <m:t xml:space="preserve">⋅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,29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,4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,29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,77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,06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7,06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0,7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0,7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,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3" dur="indefinite" restart="never" nodeType="tmRoot">
          <p:childTnLst>
            <p:seq>
              <p:cTn id="4084" dur="indefinite" nodeType="mainSeq">
                <p:childTnLst>
                  <p:par>
                    <p:cTn id="4085" fill="hold">
                      <p:stCondLst>
                        <p:cond delay="0"/>
                      </p:stCondLst>
                      <p:childTnLst>
                        <p:par>
                          <p:cTn id="4086" fill="hold">
                            <p:stCondLst>
                              <p:cond delay="0"/>
                            </p:stCondLst>
                            <p:childTnLst>
                              <p:par>
                                <p:cTn id="40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9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0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1" dur="9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3" fill="hold">
                      <p:stCondLst>
                        <p:cond delay="indefinite"/>
                      </p:stCondLst>
                      <p:childTnLst>
                        <p:par>
                          <p:cTn id="4094" fill="hold">
                            <p:stCondLst>
                              <p:cond delay="0"/>
                            </p:stCondLst>
                            <p:childTnLst>
                              <p:par>
                                <p:cTn id="4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7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0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5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1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6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8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1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2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3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7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0" dur="10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3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6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9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2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5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8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1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4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7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0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3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6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9" dur="1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2" dur="1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5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8" dur="1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1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4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7" dur="1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0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3" dur="1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6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9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2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5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8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1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4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7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0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3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6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9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2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5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8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1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4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7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0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6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9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2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7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0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1" dur="10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4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fill="hold">
                      <p:stCondLst>
                        <p:cond delay="indefinite"/>
                      </p:stCondLst>
                      <p:childTnLst>
                        <p:par>
                          <p:cTn id="4286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9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2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3" fill="hold">
                      <p:stCondLst>
                        <p:cond delay="indefinite"/>
                      </p:stCondLst>
                      <p:childTnLst>
                        <p:par>
                          <p:cTn id="4294" fill="hold">
                            <p:stCondLst>
                              <p:cond delay="0"/>
                            </p:stCondLst>
                            <p:childTnLst>
                              <p:par>
                                <p:cTn id="4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6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9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2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5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8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1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4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17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0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4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5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9" dur="1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0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5" dur="10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6" dur="10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7" dur="10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0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1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2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5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6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0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1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2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5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7" dur="10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0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2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5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6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7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0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1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2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0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1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2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5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7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0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2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5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0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1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2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5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6" dur="10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7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0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1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2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5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10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7" dur="10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0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2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6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0" dur="1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1" dur="10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2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5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6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7" dur="1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1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5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6" dur="1000" fill="hold"/>
                                        <p:tgtEl>
                                          <p:spTgt spid="1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7" dur="1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0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1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2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7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0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1" dur="10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5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7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0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1" dur="1000" fill="hold"/>
                                        <p:tgtEl>
                                          <p:spTgt spid="1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2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5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6" dur="10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7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0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1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2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5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6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7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0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1" dur="10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2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5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6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7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7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0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2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5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6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7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0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1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2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5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7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0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1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2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5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6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7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0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2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5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7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0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2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5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7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0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1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2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5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7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2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5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6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7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0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2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5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7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2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6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7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2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6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7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1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5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6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7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0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1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2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5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6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7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0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2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5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6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7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0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1" dur="1000" fill="hold"/>
                                        <p:tgtEl>
                                          <p:spTgt spid="1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2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5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6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7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0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1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2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5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6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7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0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1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5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6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7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0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1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2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5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6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7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8" fill="hold">
                      <p:stCondLst>
                        <p:cond delay="indefinite"/>
                      </p:stCondLst>
                      <p:childTnLst>
                        <p:par>
                          <p:cTn id="4679" fill="hold">
                            <p:stCondLst>
                              <p:cond delay="0"/>
                            </p:stCondLst>
                            <p:childTnLst>
                              <p:par>
                                <p:cTn id="4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2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3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7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8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9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3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4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5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0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3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5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8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9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0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3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4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5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8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0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3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4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5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8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9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0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3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4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5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8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9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0" dur="10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3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4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5" dur="1000"/>
                                        <p:tgtEl>
                                          <p:spTgt spid="1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8" dur="10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9" dur="10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0" dur="1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3" dur="1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4" dur="1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5" dur="10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8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9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0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3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1000" fill="hold"/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5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8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9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0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3" dur="1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4" dur="1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5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8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9" dur="1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0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3" dur="10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4" dur="1000" fill="hold"/>
                                        <p:tgtEl>
                                          <p:spTgt spid="1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5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8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1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0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3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1000" fill="hold"/>
                                        <p:tgtEl>
                                          <p:spTgt spid="1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5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8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10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0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3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4" dur="1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5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9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0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4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5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9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0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4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5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8" dur="1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9" dur="10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0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3" dur="1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4" dur="10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5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9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0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5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8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9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0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3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4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5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8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9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0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3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4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5" dur="1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8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9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0" dur="1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3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5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8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9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0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5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6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7" dur="1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2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3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7" dur="1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8" dur="1000" fill="hold"/>
                                        <p:tgtEl>
                                          <p:spTgt spid="1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9" dur="10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0" fill="hold">
                      <p:stCondLst>
                        <p:cond delay="indefinite"/>
                      </p:stCondLst>
                      <p:childTnLst>
                        <p:par>
                          <p:cTn id="4901" fill="hold">
                            <p:stCondLst>
                              <p:cond delay="0"/>
                            </p:stCondLst>
                            <p:childTnLst>
                              <p:par>
                                <p:cTn id="49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4" dur="1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7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8" fill="hold">
                      <p:stCondLst>
                        <p:cond delay="indefinite"/>
                      </p:stCondLst>
                      <p:childTnLst>
                        <p:par>
                          <p:cTn id="4909" fill="hold">
                            <p:stCondLst>
                              <p:cond delay="0"/>
                            </p:stCondLst>
                            <p:childTnLst>
                              <p:par>
                                <p:cTn id="4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2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3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4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5" fill="hold">
                      <p:stCondLst>
                        <p:cond delay="indefinite"/>
                      </p:stCondLst>
                      <p:childTnLst>
                        <p:par>
                          <p:cTn id="4916" fill="hold">
                            <p:stCondLst>
                              <p:cond delay="0"/>
                            </p:stCondLst>
                            <p:childTnLst>
                              <p:par>
                                <p:cTn id="49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9" dur="1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2" dur="1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5" dur="1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8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1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4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7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0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3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6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9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2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5" dur="10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8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2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5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8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1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4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7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0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3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6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9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2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5" dur="1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8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1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4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7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0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3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6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9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0" fill="hold">
                      <p:stCondLst>
                        <p:cond delay="indefinite"/>
                      </p:stCondLst>
                      <p:childTnLst>
                        <p:par>
                          <p:cTn id="5021" fill="hold">
                            <p:stCondLst>
                              <p:cond delay="0"/>
                            </p:stCondLst>
                            <p:childTnLst>
                              <p:par>
                                <p:cTn id="50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4" dur="10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5" dur="10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6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0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1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2" dur="10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к  слайду  21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Матричные выражения для вычисл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еличин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матриц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2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основных неизвестных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3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Как называется каждая из матриц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2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Какую структуру (поблочно) и размеры (число строк и столбцов) имеют матриц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Как взаимно согласуются размеры и структура этих матриц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Какой смысл имеют компонент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столбца матриц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?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</a:t>
            </a:r>
            <a:r>
              <a:rPr b="1" lang="de-DE" sz="16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)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столб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триц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Назначение расчётных участков и расчётных сечений элементов с упруг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температурными деформациями при выполнении расчёта СНС методом с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матричной форме (правила,  возможности рационального сокращения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чётных сечений)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4 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Вид матриц внутренней упругой податливости расчётных участков с различ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ислом (3, 2, 1) расчётных сеч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Какие силовые факторы описываются матрицам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и расчё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балок;  б) рам;  в) арок;  г) ферм;  д) комбинированных систем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соответственно формируется матриц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Как в матрицах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учитывается наличие в системе упругоподатли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яз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 Из каких частей (блоков) состоят матриц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33440" y="6219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8307360" y="2421000"/>
            <a:ext cx="144360" cy="3706920"/>
          </a:xfrm>
          <a:custGeom>
            <a:avLst/>
            <a:gdLst>
              <a:gd name="textAreaLeft" fmla="*/ 0 w 144360"/>
              <a:gd name="textAreaRight" fmla="*/ 52200 w 144360"/>
              <a:gd name="textAreaTop" fmla="*/ 96480 h 3706920"/>
              <a:gd name="textAreaBottom" fmla="*/ 3610440 h 370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 rot="16200000">
            <a:off x="6575760" y="4026600"/>
            <a:ext cx="4176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м. также тему «Матричная форма опре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ремещений линейно деформируемых систе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к  слайду  22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Какую структуру (поблочно) и размеры (число строк и столбцов) име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трицы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. Значения каких величин и в какой последовательности приводя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матрицах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Какие характеристики расчётных участков используются при формирова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и матрицы температурной податливост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Какие размеры (число строк и столбцов) имеют матриц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значений каких величин формируются эти матрицы и как согласу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овательности записи их компонент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Матричные формулы для вычисления искомых силовых факторов: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характерных сечениях (расчётных сечениях расчётных участков ОСМС)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3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в требуемом наборе (в том числе в произвольно назначенных сечениях)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3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. Сколько и каких исходных матриц (перечислить) необходимо составить для выпол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ия расчёта с  результатами по вариантам (а) и (б) предыдущего вопроса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3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, ( 4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6. Что получается в результате выполнения следующих матричных операци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                 ; б)                ; в)                 ; г)                 ; д)                 ; е)                    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)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)                                       ;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)                                      ;  к)                                    ;                 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)                                    ;    м)                                            ;  н)                                             ;  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3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)                                             ;     п)                                    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. Формулы кинематической проверки (универсальной и раздельной)  в матричной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силовых, температурных и кинематических воздействиях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7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6308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79480" y="4500720"/>
                <a:ext cx="9111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2049480" y="4511520"/>
                <a:ext cx="82404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152880" y="4513320"/>
                <a:ext cx="8715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4309920" y="4513320"/>
                <a:ext cx="852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5445000" y="4513320"/>
                <a:ext cx="874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6589800" y="4513320"/>
                <a:ext cx="10350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7912080" y="4513320"/>
                <a:ext cx="936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1" name=""/>
              <p:cNvSpPr txBox="1"/>
              <p:nvPr/>
            </p:nvSpPr>
            <p:spPr>
              <a:xfrm>
                <a:off x="900000" y="4886280"/>
                <a:ext cx="1900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213000" y="4886280"/>
                <a:ext cx="18972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489640" y="4886280"/>
                <a:ext cx="1809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907920" y="5254560"/>
                <a:ext cx="1792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E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151080" y="5254560"/>
                <a:ext cx="2260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5764320" y="5254560"/>
                <a:ext cx="2303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9" name=""/>
              <p:cNvSpPr txBox="1"/>
              <p:nvPr/>
            </p:nvSpPr>
            <p:spPr>
              <a:xfrm>
                <a:off x="882720" y="5621400"/>
                <a:ext cx="2270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3689280" y="5616720"/>
                <a:ext cx="23209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1" name=""/>
          <p:cNvSpPr/>
          <p:nvPr/>
        </p:nvSpPr>
        <p:spPr>
          <a:xfrm flipH="1">
            <a:off x="8224560" y="4821120"/>
            <a:ext cx="3240" cy="8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79280" y="18900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rot="16200000">
            <a:off x="7147800" y="2057760"/>
            <a:ext cx="2306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м. тему «Матричная форма опреде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ремещений линейно деформируемых систе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7736040" y="1581120"/>
            <a:ext cx="133200" cy="1728720"/>
          </a:xfrm>
          <a:custGeom>
            <a:avLst/>
            <a:gdLst>
              <a:gd name="textAreaLeft" fmla="*/ 0 w 133200"/>
              <a:gd name="textAreaRight" fmla="*/ 47880 w 13320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в  м а т р и ч н о й  ф о р м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71640" y="1376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Основные неизвест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60640" y="1895400"/>
            <a:ext cx="1800000" cy="432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124000" y="1844640"/>
                <a:ext cx="1728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860640" y="1895400"/>
            <a:ext cx="3384720" cy="432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013280" y="1878120"/>
                <a:ext cx="3043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301920" y="270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скомые усил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68840" y="3191040"/>
            <a:ext cx="1726920" cy="5029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471760" y="3216240"/>
                <a:ext cx="2944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   S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5580000" y="328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случае СО ОСМС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621560" y="3246480"/>
                <a:ext cx="892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442800" y="4076640"/>
            <a:ext cx="2808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а) в характерных сеч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счётных участ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089240"/>
            <a:ext cx="3803760" cy="609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305160" y="4149720"/>
                <a:ext cx="3521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20840" y="5376960"/>
            <a:ext cx="2808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) в назначенных сеч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61320" y="4257720"/>
            <a:ext cx="2050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 исходных матр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5195880"/>
            <a:ext cx="381456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330720" y="5254560"/>
                <a:ext cx="35463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948360" y="5365800"/>
            <a:ext cx="205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7 исходных матр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716280"/>
            <a:ext cx="4319280" cy="506520"/>
          </a:xfrm>
          <a:custGeom>
            <a:avLst/>
            <a:gdLst/>
            <a:ahLst/>
            <a:rect l="l" t="t" r="r" b="b"/>
            <a:pathLst>
              <a:path w="2721" h="319">
                <a:moveTo>
                  <a:pt x="2721" y="0"/>
                </a:moveTo>
                <a:lnTo>
                  <a:pt x="2721" y="137"/>
                </a:lnTo>
                <a:lnTo>
                  <a:pt x="0" y="137"/>
                </a:lnTo>
                <a:lnTo>
                  <a:pt x="0" y="318"/>
                </a:lnTo>
                <a:lnTo>
                  <a:pt x="92" y="319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219560"/>
            <a:ext cx="145800" cy="1297080"/>
          </a:xfrm>
          <a:custGeom>
            <a:avLst/>
            <a:gdLst/>
            <a:ahLst/>
            <a:rect l="l" t="t" r="r" b="b"/>
            <a:pathLst>
              <a:path w="92" h="182">
                <a:moveTo>
                  <a:pt x="0" y="0"/>
                </a:moveTo>
                <a:lnTo>
                  <a:pt x="0" y="181"/>
                </a:lnTo>
                <a:lnTo>
                  <a:pt x="92" y="182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 Black"/>
              </a:rPr>
              <a:t>в  м а т р и ч н о й  ф о р м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112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астный случай – силовое воздействие 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)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840" y="1557360"/>
            <a:ext cx="2808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а) в характерных сеч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счётных участ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1654200"/>
            <a:ext cx="397188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111480" y="1639800"/>
                <a:ext cx="3568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11040" y="5899320"/>
            <a:ext cx="2808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б) в назначенных сечения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16600" y="1773360"/>
            <a:ext cx="216072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исходные матри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, B, 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5786280"/>
            <a:ext cx="3971880" cy="4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20920" y="5778360"/>
                <a:ext cx="3592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948360" y="5888160"/>
            <a:ext cx="205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 исходных матр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2637000"/>
            <a:ext cx="1726920" cy="122364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0" y="635"/>
                </a:moveTo>
                <a:lnTo>
                  <a:pt x="0" y="0"/>
                </a:lnTo>
                <a:lnTo>
                  <a:pt x="8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560" y="3213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8440" y="386064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8440" y="3860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2321280" y="260100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2508120"/>
            <a:ext cx="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84280" y="2603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64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49228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2266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292640"/>
            <a:ext cx="1726920" cy="122400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0" y="635"/>
                </a:moveTo>
                <a:lnTo>
                  <a:pt x="0" y="0"/>
                </a:lnTo>
                <a:lnTo>
                  <a:pt x="8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560" y="486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8440" y="551664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8440" y="5516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2321280" y="425700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41641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73480" y="42577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44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600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364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414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148280"/>
            <a:ext cx="172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39355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8000" y="2097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04800" y="21002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6200" y="4255920"/>
            <a:ext cx="8244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6200" y="5457960"/>
            <a:ext cx="96840" cy="93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 rot="17119800">
            <a:off x="501480" y="4383000"/>
            <a:ext cx="28836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 rot="12280800">
            <a:off x="752760" y="414072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7480" y="4327560"/>
            <a:ext cx="50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 rot="6741600">
            <a:off x="558720" y="5165640"/>
            <a:ext cx="28836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5157720"/>
            <a:ext cx="50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6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789360"/>
            <a:ext cx="1727280" cy="122400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0" y="635"/>
                </a:moveTo>
                <a:lnTo>
                  <a:pt x="0" y="0"/>
                </a:lnTo>
                <a:lnTo>
                  <a:pt x="8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73920" y="436572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32440" y="5013360"/>
            <a:ext cx="25272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32440" y="501336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8585640" y="375372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675640" y="366084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37480" y="37544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10560" y="3753000"/>
            <a:ext cx="8244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10560" y="4954680"/>
            <a:ext cx="96840" cy="93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6840" y="4703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3040" y="37512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09840" y="37544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637000"/>
            <a:ext cx="433440" cy="1225440"/>
          </a:xfrm>
          <a:custGeom>
            <a:avLst/>
            <a:gdLst/>
            <a:ahLst/>
            <a:rect l="l" t="t" r="r" b="b"/>
            <a:pathLst>
              <a:path w="273" h="772">
                <a:moveTo>
                  <a:pt x="0" y="0"/>
                </a:moveTo>
                <a:lnTo>
                  <a:pt x="273" y="772"/>
                </a:lnTo>
                <a:lnTo>
                  <a:pt x="0" y="772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2637000"/>
            <a:ext cx="1727280" cy="122364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0" y="635"/>
                </a:moveTo>
                <a:lnTo>
                  <a:pt x="0" y="0"/>
                </a:lnTo>
                <a:lnTo>
                  <a:pt x="8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4294080"/>
            <a:ext cx="433440" cy="1224000"/>
          </a:xfrm>
          <a:custGeom>
            <a:avLst/>
            <a:gdLst/>
            <a:ahLst/>
            <a:rect l="l" t="t" r="r" b="b"/>
            <a:pathLst>
              <a:path w="273" h="771">
                <a:moveTo>
                  <a:pt x="0" y="0"/>
                </a:moveTo>
                <a:lnTo>
                  <a:pt x="273" y="0"/>
                </a:lnTo>
                <a:lnTo>
                  <a:pt x="0" y="771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4294080"/>
            <a:ext cx="1728720" cy="358920"/>
          </a:xfrm>
          <a:custGeom>
            <a:avLst/>
            <a:gdLst/>
            <a:ahLst/>
            <a:rect l="l" t="t" r="r" b="b"/>
            <a:pathLst>
              <a:path w="1089" h="226">
                <a:moveTo>
                  <a:pt x="0" y="0"/>
                </a:moveTo>
                <a:lnTo>
                  <a:pt x="0" y="226"/>
                </a:lnTo>
                <a:lnTo>
                  <a:pt x="1089" y="0"/>
                </a:lnTo>
              </a:path>
            </a:pathLst>
          </a:custGeom>
          <a:blipFill rotWithShape="0">
            <a:blip r:embed="rId9">
              <a:alphaModFix amt="3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4294080"/>
            <a:ext cx="1727280" cy="122400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0" y="635"/>
                </a:moveTo>
                <a:lnTo>
                  <a:pt x="0" y="0"/>
                </a:lnTo>
                <a:lnTo>
                  <a:pt x="8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2637000"/>
            <a:ext cx="1729080" cy="510840"/>
          </a:xfrm>
          <a:custGeom>
            <a:avLst/>
            <a:gdLst/>
            <a:ahLst/>
            <a:rect l="l" t="t" r="r" b="b"/>
            <a:pathLst>
              <a:path w="1089" h="322">
                <a:moveTo>
                  <a:pt x="0" y="0"/>
                </a:moveTo>
                <a:cubicBezTo>
                  <a:pt x="31" y="22"/>
                  <a:pt x="125" y="94"/>
                  <a:pt x="184" y="134"/>
                </a:cubicBezTo>
                <a:cubicBezTo>
                  <a:pt x="243" y="174"/>
                  <a:pt x="295" y="207"/>
                  <a:pt x="356" y="238"/>
                </a:cubicBezTo>
                <a:cubicBezTo>
                  <a:pt x="417" y="269"/>
                  <a:pt x="448" y="294"/>
                  <a:pt x="552" y="322"/>
                </a:cubicBezTo>
                <a:cubicBezTo>
                  <a:pt x="644" y="294"/>
                  <a:pt x="706" y="262"/>
                  <a:pt x="771" y="227"/>
                </a:cubicBezTo>
                <a:cubicBezTo>
                  <a:pt x="836" y="192"/>
                  <a:pt x="891" y="148"/>
                  <a:pt x="944" y="110"/>
                </a:cubicBezTo>
                <a:cubicBezTo>
                  <a:pt x="997" y="72"/>
                  <a:pt x="1059" y="23"/>
                  <a:pt x="1089" y="0"/>
                </a:cubicBez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5440" y="2637000"/>
            <a:ext cx="1727280" cy="1223640"/>
          </a:xfrm>
          <a:custGeom>
            <a:avLst/>
            <a:gdLst/>
            <a:ahLst/>
            <a:rect l="l" t="t" r="r" b="b"/>
            <a:pathLst>
              <a:path w="861" h="635">
                <a:moveTo>
                  <a:pt x="0" y="635"/>
                </a:moveTo>
                <a:lnTo>
                  <a:pt x="0" y="0"/>
                </a:lnTo>
                <a:lnTo>
                  <a:pt x="86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73760" y="263700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18160" y="3286080"/>
            <a:ext cx="504720" cy="503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4726080"/>
            <a:ext cx="504720" cy="503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3070080"/>
            <a:ext cx="504720" cy="503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7520" y="331776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9200" y="3105000"/>
            <a:ext cx="528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4754520"/>
            <a:ext cx="52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13000" y="3635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39816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17920" y="4460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65880" y="2436840"/>
            <a:ext cx="129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хема расчётных участ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 с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75560" y="4375080"/>
            <a:ext cx="108000" cy="611280"/>
          </a:xfrm>
          <a:custGeom>
            <a:avLst/>
            <a:gdLst>
              <a:gd name="textAreaLeft" fmla="*/ 69120 w 108000"/>
              <a:gd name="textAreaRight" fmla="*/ 108360 w 108000"/>
              <a:gd name="textAreaTop" fmla="*/ 15840 h 611280"/>
              <a:gd name="textAreaBottom" fmla="*/ 595440 h 6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75560" y="3784680"/>
            <a:ext cx="108000" cy="576360"/>
          </a:xfrm>
          <a:custGeom>
            <a:avLst/>
            <a:gdLst>
              <a:gd name="textAreaLeft" fmla="*/ 69120 w 108000"/>
              <a:gd name="textAreaRight" fmla="*/ 108360 w 108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7333200" y="3261600"/>
            <a:ext cx="107640" cy="826920"/>
          </a:xfrm>
          <a:custGeom>
            <a:avLst/>
            <a:gdLst>
              <a:gd name="textAreaLeft" fmla="*/ 68760 w 107640"/>
              <a:gd name="textAreaRight" fmla="*/ 108000 w 107640"/>
              <a:gd name="textAreaTop" fmla="*/ 21240 h 826920"/>
              <a:gd name="textAreaBottom" fmla="*/ 805680 h 8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8174880" y="3261240"/>
            <a:ext cx="107640" cy="827280"/>
          </a:xfrm>
          <a:custGeom>
            <a:avLst/>
            <a:gdLst>
              <a:gd name="textAreaLeft" fmla="*/ 68760 w 107640"/>
              <a:gd name="textAreaRight" fmla="*/ 108000 w 107640"/>
              <a:gd name="textAreaTop" fmla="*/ 21240 h 827280"/>
              <a:gd name="textAreaBottom" fmla="*/ 806040 h 8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64160" y="4538520"/>
            <a:ext cx="287640" cy="2890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62720" y="3924360"/>
            <a:ext cx="287280" cy="288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0" y="3324240"/>
            <a:ext cx="287280" cy="2890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77320" y="3327480"/>
            <a:ext cx="287280" cy="2887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3880" y="4491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3880" y="38718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7440" y="3278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58240" y="3278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7360" y="4932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72400" y="44038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7080" y="43322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81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54920" y="3718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59800" y="3718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846920" y="3718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24920" y="3718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604360" y="3718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08800" y="3718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4753080"/>
            <a:ext cx="4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73800" y="3755880"/>
            <a:ext cx="4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72480" y="429408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75520" y="3755880"/>
            <a:ext cx="4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19920" y="406872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00920" y="370836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64480" y="376092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6160" y="378936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3160" y="3755880"/>
            <a:ext cx="41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07440" y="3755880"/>
            <a:ext cx="41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068960" y="6078600"/>
                <a:ext cx="1776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,  B,  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  {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sSub>
                      <m:e/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 л а н</a:t>
            </a:r>
            <a:r>
              <a:rPr b="0" lang="ru-RU" sz="1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-</a:t>
            </a:r>
            <a:r>
              <a:rPr b="0" lang="ru-RU" sz="1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 л г о р и т м  расчёта СНС методом си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933480"/>
            <a:ext cx="165564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(ш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0920" y="933480"/>
            <a:ext cx="676908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о  д  е  р  ж  а  н  и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278000"/>
            <a:ext cx="1655640" cy="6274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.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инемат. анали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ыявление степ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татической неопредел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2720" y="1271520"/>
            <a:ext cx="6767280" cy="6645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?)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Ю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Н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структур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степень статической неопределим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л.с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( = 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951200"/>
            <a:ext cx="1655640" cy="5198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ы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сновной системы метода сил (ОС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2720" y="1941480"/>
            <a:ext cx="6767280" cy="546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равнительный анализ возможных вариантов ОСМ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бор рациональной ОСМС,  номинация основных неизвестных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2527200"/>
            <a:ext cx="1655640" cy="9957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3. Запи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анон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урав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метода с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КУМ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2720" y="2527200"/>
            <a:ext cx="6767280" cy="3121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ловия кинематической эквивалентн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СНС и ОСМС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..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0920" y="2827440"/>
            <a:ext cx="3961080" cy="2397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О б ы ч н а я   ф о р м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4720" y="2827440"/>
            <a:ext cx="2735280" cy="23976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М а т р и ч н а я   ф о р м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3084480"/>
            <a:ext cx="3961080" cy="432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3084480"/>
            <a:ext cx="2735280" cy="432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709720" y="2921040"/>
                <a:ext cx="2568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600960" y="3078000"/>
                <a:ext cx="1655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24000" y="3576600"/>
            <a:ext cx="1655640" cy="4568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Едини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стояния ОС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2720" y="3560760"/>
            <a:ext cx="6767280" cy="51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пределение внутренних силовы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1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691320" y="3490920"/>
                <a:ext cx="1871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24000" y="4098960"/>
            <a:ext cx="1655640" cy="7632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5.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эффициентов КУ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2720" y="4089240"/>
            <a:ext cx="6767280" cy="2754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 единичных перемещен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0920" y="4363920"/>
            <a:ext cx="3961080" cy="503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268360" y="4297320"/>
                <a:ext cx="3480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084720" y="4365720"/>
            <a:ext cx="2735280" cy="503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867360" y="4406760"/>
                <a:ext cx="1160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324000" y="4921200"/>
            <a:ext cx="1655640" cy="4784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ейств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стояние ОСМ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2720" y="4915080"/>
            <a:ext cx="6767280" cy="51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пределение внутренних силовы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ных  воздействий;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ных деформаций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и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5454720"/>
            <a:ext cx="1655640" cy="11898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вободных членов КУ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50920" y="5454720"/>
            <a:ext cx="6769080" cy="4399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от силовых, температурн.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и кинематич.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0920" y="5734080"/>
            <a:ext cx="3961080" cy="863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5734080"/>
            <a:ext cx="2719440" cy="863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653160" y="4843440"/>
                <a:ext cx="1914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678720" y="5676840"/>
                <a:ext cx="1589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01760" y="5695920"/>
                <a:ext cx="36514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Σ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Σ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Σ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 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278400" y="6045120"/>
                <a:ext cx="23479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т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 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278000"/>
            <a:ext cx="1655640" cy="39430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8.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коэффиц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и свобод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членов КУ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2720" y="1265400"/>
            <a:ext cx="6767280" cy="41472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ммарное единичное состояние ОСМС – от одновременно прилож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, … 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;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ых единичных ВС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2720" y="2867040"/>
            <a:ext cx="6767280" cy="3798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б) построчная проверка коэффициентов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при отрицательном результате универсальной проверки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60640" y="2119320"/>
            <a:ext cx="3960720" cy="7880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о б ы ч н а я   ф о р м 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2119320"/>
            <a:ext cx="2735280" cy="7930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0000"/>
                </a:solidFill>
                <a:uFillTx/>
                <a:latin typeface="Arial Narrow"/>
              </a:rPr>
              <a:t>м а т р и ч н а я   ф о р м 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60640" y="3265560"/>
            <a:ext cx="3960720" cy="539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4720" y="3268800"/>
            <a:ext cx="2735280" cy="5396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2720" y="3868560"/>
            <a:ext cx="6767280" cy="2538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верка свободных членов канонических уравнений М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60640" y="4140360"/>
            <a:ext cx="3960720" cy="1079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4140360"/>
            <a:ext cx="2735280" cy="10872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 л а н</a:t>
            </a:r>
            <a:r>
              <a:rPr b="0" lang="ru-RU" sz="1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-</a:t>
            </a:r>
            <a:r>
              <a:rPr b="0" lang="ru-RU" sz="1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 л г о р и т м  расчёта СНС методом си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933480"/>
            <a:ext cx="165564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(ш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0920" y="933480"/>
            <a:ext cx="676908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о  д  е  р  ж  а  н  и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337520" y="1386000"/>
                <a:ext cx="14396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2060640" y="1681200"/>
            <a:ext cx="6767280" cy="243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верка коэффициентов канонических уравнений М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60640" y="1863720"/>
            <a:ext cx="6767280" cy="2322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а) универсальная проверка коэффициентов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424240" y="2295360"/>
                <a:ext cx="33638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300720" y="2274840"/>
                <a:ext cx="2394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278080" y="3224160"/>
                <a:ext cx="4086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  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546960" y="3222720"/>
                <a:ext cx="22208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195640" y="4111560"/>
                <a:ext cx="39114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Δ</m:t>
                            </m:r>
                          </m:e>
                          <m:sub>
                            <m:r>
                              <m:t xml:space="preserve">sΣ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Σ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Σ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270480" y="4398840"/>
                <a:ext cx="24148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sΣ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Σ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1979640" y="1681200"/>
            <a:ext cx="433440" cy="216000"/>
          </a:xfrm>
          <a:prstGeom prst="rightArrow">
            <a:avLst>
              <a:gd name="adj1" fmla="val 41176"/>
              <a:gd name="adj2" fmla="val 76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969920" y="3889440"/>
            <a:ext cx="433440" cy="216000"/>
          </a:xfrm>
          <a:prstGeom prst="rightArrow">
            <a:avLst>
              <a:gd name="adj1" fmla="val 41176"/>
              <a:gd name="adj2" fmla="val 76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5288040"/>
            <a:ext cx="1655640" cy="13118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еизвестных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решение КУМ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60640" y="5281560"/>
            <a:ext cx="3960720" cy="1284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251080" y="5240160"/>
                <a:ext cx="337968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k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…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Σ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…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3000" y="5281560"/>
            <a:ext cx="2727000" cy="127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827760" y="5751360"/>
                <a:ext cx="141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1287360"/>
            <a:ext cx="1655640" cy="1233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ыч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ско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ил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2720" y="2502000"/>
            <a:ext cx="6767280" cy="4896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 т а т и ч е с к а я    п р о в е р к 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 п р о в е р к а   р а в н о в е с и я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60640" y="3381480"/>
            <a:ext cx="3960720" cy="1349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3381480"/>
            <a:ext cx="2735280" cy="1349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2502000"/>
            <a:ext cx="1655640" cy="3434040"/>
          </a:xfrm>
          <a:prstGeom prst="rect">
            <a:avLst/>
          </a:prstGeom>
          <a:solidFill>
            <a:srgbClr val="d9edef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1.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расчё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52720" y="3068640"/>
            <a:ext cx="6767280" cy="28584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 u="sng">
                <a:solidFill>
                  <a:srgbClr val="cc0000"/>
                </a:solidFill>
                <a:uFillTx/>
                <a:latin typeface="Arial"/>
              </a:rPr>
              <a:t>К и н е м а т и ч е с к а я   ( д е ф о р м а ц и о н н а я )  п р о в е р к 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1285920"/>
            <a:ext cx="3961080" cy="1170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87960" y="1281240"/>
            <a:ext cx="273528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П л а н</a:t>
            </a:r>
            <a:r>
              <a:rPr b="0" lang="ru-RU" sz="1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-</a:t>
            </a:r>
            <a:r>
              <a:rPr b="0" lang="ru-RU" sz="1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а л г о р и т м  расчёта СНС методом сил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933480"/>
            <a:ext cx="165564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(ша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933480"/>
            <a:ext cx="6769080" cy="299520"/>
          </a:xfrm>
          <a:prstGeom prst="rect">
            <a:avLst/>
          </a:prstGeom>
          <a:solidFill>
            <a:srgbClr val="84e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 о  д  е  р  ж  а  н  и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220840" y="3533760"/>
                <a:ext cx="37180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275000" y="1407960"/>
                <a:ext cx="165600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∋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Q 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124000" y="1204920"/>
                <a:ext cx="2068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1981080" y="3102120"/>
            <a:ext cx="433440" cy="215640"/>
          </a:xfrm>
          <a:prstGeom prst="rightArrow">
            <a:avLst>
              <a:gd name="adj1" fmla="val 41176"/>
              <a:gd name="adj2" fmla="val 762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2603520"/>
            <a:ext cx="433440" cy="216000"/>
          </a:xfrm>
          <a:prstGeom prst="rightArrow">
            <a:avLst>
              <a:gd name="adj1" fmla="val 41176"/>
              <a:gd name="adj2" fmla="val 76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248520" y="1273320"/>
                <a:ext cx="2379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S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6084720" y="1878120"/>
            <a:ext cx="273528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6272280" y="1857240"/>
                <a:ext cx="2344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Σ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</m:e>
                    </m:eqAr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Σ</m:t>
                        </m:r>
                      </m:sub>
                      <m:sup/>
                    </m:sSubSup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130480" y="5950080"/>
                <a:ext cx="3881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5829480" y="2421000"/>
            <a:ext cx="216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а) системы в це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26080" y="2590920"/>
            <a:ext cx="172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б) уз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0" y="2759040"/>
            <a:ext cx="244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) выделенных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34080" y="32623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а)  о б щ а 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050920" y="4767120"/>
            <a:ext cx="3961080" cy="122400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109960" y="4740120"/>
                <a:ext cx="40957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t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  <m:r>
                          <m:t xml:space="preserve">(</m:t>
                        </m:r>
                        <m:r>
                          <m:t xml:space="preserve">?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6499080" y="3344760"/>
                <a:ext cx="2033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545160" y="3997440"/>
                <a:ext cx="21160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6084720" y="4756320"/>
            <a:ext cx="2735280" cy="1241280"/>
          </a:xfrm>
          <a:prstGeom prst="rect">
            <a:avLst/>
          </a:prstGeom>
          <a:solidFill>
            <a:srgbClr val="d9e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88080" y="46465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)  ч а с т н ы 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524640" y="4973760"/>
                <a:ext cx="204624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S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592600" y="5195880"/>
                <a:ext cx="747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039680" y="61214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риан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041880" y="6114960"/>
                <a:ext cx="2616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?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060640" y="1819440"/>
                <a:ext cx="39607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M/ds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184464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79640" y="141300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87480" y="270828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51120" y="270828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19440" y="2708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5436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1944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7784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95400" y="1811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40040" y="26701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0656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906560" y="172656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184464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7964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24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68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43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56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00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79640" y="126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16000" y="2924280"/>
            <a:ext cx="172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7964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9640" y="270828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141300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1844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1413000"/>
            <a:ext cx="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081080" y="28814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40040" y="28861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803680" y="2887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7800" y="137484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3120" y="1805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4560" y="26686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4360" y="2133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26692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0840" y="14907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95240" y="1584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60560" y="1012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14480" y="19461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2000" y="2146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2708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309680" y="180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95640" y="1366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32000" y="1407960"/>
            <a:ext cx="5543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 Кинематический анализ и выявление степени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статической неопределимости заданной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1881360"/>
            <a:ext cx="539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) = 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&lt; 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90920" y="2114640"/>
            <a:ext cx="201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 n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= –</a:t>
            </a:r>
            <a:r>
              <a:rPr b="1" i="1" lang="en-US" sz="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64000" y="2114640"/>
            <a:ext cx="30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K–</a:t>
            </a:r>
            <a:r>
              <a:rPr b="1" i="1" lang="en-US" sz="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 – 4 =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22560" y="2530440"/>
            <a:ext cx="4105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Выбор основной системы метода сил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49800" y="3751200"/>
            <a:ext cx="1798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арианты ОСМС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84720" y="4437000"/>
            <a:ext cx="57636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61080" y="4149720"/>
            <a:ext cx="57600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37240" y="5011560"/>
            <a:ext cx="25236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78280" y="4408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59080" y="5227560"/>
            <a:ext cx="25272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64120" y="5229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32200" y="501336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11800" y="502272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13240" y="5032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07200" y="49942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26160" y="49737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00560" y="5800680"/>
            <a:ext cx="57636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76920" y="5513400"/>
            <a:ext cx="57600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3080" y="6375240"/>
            <a:ext cx="25236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94120" y="57722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48040" y="637704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388200" y="4437000"/>
            <a:ext cx="57600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64200" y="4149720"/>
            <a:ext cx="57636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0360" y="5011560"/>
            <a:ext cx="25272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1760" y="4408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35680" y="5013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88200" y="5794200"/>
            <a:ext cx="57600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64200" y="5506920"/>
            <a:ext cx="57636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0360" y="6369120"/>
            <a:ext cx="25272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29280" y="5765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53200" y="637056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35680" y="6370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15280" y="638028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94080" y="5022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51240" y="497988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55920" y="5186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55920" y="44038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72040" y="6380280"/>
            <a:ext cx="25236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76720" y="6381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68880" y="63388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18360" y="546408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42000" y="6337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29280" y="6329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57880" y="5229360"/>
            <a:ext cx="252360" cy="7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62560" y="52308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92880" y="50245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50040" y="4981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354720" y="51879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12040" y="5218200"/>
            <a:ext cx="25236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16720" y="5219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47040" y="501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504200" y="49705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08880" y="51768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929280" y="497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5640" y="57722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8000" y="54849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 rot="17119800">
            <a:off x="4102560" y="45072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 rot="16881000">
            <a:off x="4124160" y="587808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 rot="16301400">
            <a:off x="6821280" y="58752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 rot="12280800">
            <a:off x="4340520" y="430416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 rot="12280800">
            <a:off x="4353120" y="5674320"/>
            <a:ext cx="28872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 rot="12280800">
            <a:off x="7304400" y="539316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 rot="18004800">
            <a:off x="5290200" y="55908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 rot="7297800">
            <a:off x="6847920" y="548136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 rot="871200">
            <a:off x="5114880" y="5337000"/>
            <a:ext cx="28872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 rot="396600">
            <a:off x="6914520" y="537948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06800" y="5013360"/>
            <a:ext cx="252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87960" y="5013360"/>
            <a:ext cx="252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7574040" y="5006880"/>
            <a:ext cx="21744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99120" y="448632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20960" y="485316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32240" y="5869080"/>
            <a:ext cx="38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21200" y="486576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983280" y="5645160"/>
            <a:ext cx="38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45040" y="548784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40720" y="48466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58160" y="51148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32000" y="2698920"/>
            <a:ext cx="57610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ОСМС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РСНС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–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ЛС +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СНС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ссчитываемая статически неопределимая систе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С –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лишние 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е неизвест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27640" y="6375240"/>
            <a:ext cx="25236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322960" y="63770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16560" y="6337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62560" y="63691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56520" y="63277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415280" y="63691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08880" y="63277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79280" y="3225960"/>
            <a:ext cx="3384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екомендации по выб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ациональной ОСМ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9360" y="3716280"/>
            <a:ext cx="407664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.  ОСМС должна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о возможности миним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тличаться от РСНС по характеру свое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.  Нежелательно удаление линейных связ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особенно внеш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.  Удалять углов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вставлять цилиндрические  шарни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целесообразно в узлах.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.  Предпочтение следует отдавать ОСМ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 простой структурой (если возможно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то с главными и второстепенными частя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.  Если РСНС симметрична, то имеет смыс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ыбирать симметричную ОСМС.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9594800">
            <a:off x="4191120" y="4587480"/>
            <a:ext cx="1512720" cy="3988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Black"/>
              </a:rPr>
              <a:t>Г И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5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6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3080"/>
                            </p:stCondLst>
                            <p:childTnLst>
                              <p:par>
                                <p:cTn id="1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0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3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6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1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8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9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8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9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2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395280" y="260280"/>
            <a:ext cx="849780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АСЧЁТ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Требуется выполнить расчёт статически неопределимой рамы</a:t>
            </a:r>
            <a:r>
              <a:rPr b="1" i="1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16000" y="1844640"/>
            <a:ext cx="863640" cy="86364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979640" y="1413000"/>
            <a:ext cx="863640" cy="129528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87480" y="2708280"/>
            <a:ext cx="25236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851120" y="2708280"/>
            <a:ext cx="25236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19440" y="2708280"/>
            <a:ext cx="25236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5436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19440" y="270828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784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895400" y="18111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40040" y="26701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806560" y="26686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1844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906560" y="172656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541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54158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979640" y="1844640"/>
            <a:ext cx="7128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97964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124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68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411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328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5600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00360" y="1268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79640" y="126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16000" y="2924280"/>
            <a:ext cx="172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328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979640" y="278136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9640" y="270828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39640" y="141300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9640" y="1844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280" y="1413000"/>
            <a:ext cx="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1081080" y="28814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1940040" y="28861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2803680" y="2887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7800" y="137484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3120" y="1805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4560" y="26686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4360" y="2133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26692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0840" y="14907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332000" y="26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95240" y="1584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0560" y="1012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14480" y="19461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062000" y="2146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2708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49520" y="2217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09680" y="1800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195640" y="1366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32000" y="1407960"/>
            <a:ext cx="554364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 Кинематический анализ и выявление степени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статической неопределимости заданной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1881360"/>
            <a:ext cx="539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) = 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&lt; 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90920" y="2114640"/>
            <a:ext cx="201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 n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= –</a:t>
            </a:r>
            <a:r>
              <a:rPr b="1" i="1" lang="en-US" sz="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W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64000" y="2114640"/>
            <a:ext cx="30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333399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K–</a:t>
            </a:r>
            <a:r>
              <a:rPr b="1" i="1" lang="en-US" sz="9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 – 4 =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22560" y="2530440"/>
            <a:ext cx="4105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Выбор основной системы метода сил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49800" y="3751200"/>
            <a:ext cx="17985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арианты ОСМС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88200" y="5794200"/>
            <a:ext cx="57600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964200" y="5506920"/>
            <a:ext cx="57636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0360" y="6369120"/>
            <a:ext cx="25272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929280" y="5765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253200" y="6370560"/>
            <a:ext cx="25236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35680" y="6370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15280" y="638028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9360" y="3716280"/>
            <a:ext cx="407664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1.  ОСМС должна по возможности миним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отличаться от РСНС по характеру свое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2.  Нежелательно удаление линейных связ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9999"/>
                </a:solidFill>
                <a:latin typeface="Arial Narrow"/>
              </a:rPr>
              <a:t>особенно внешн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.  Удалять угловые связ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вставлять цилиндрические  шарни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целесообразно в узлах.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.  Предпочтение следует отдавать ОСМ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 простой структурой (если возможно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то с главными и второстепенными частям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.  Если РСНС симметрична, то имеет смыс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ыбирать симметричную ОСМС.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18360" y="546408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929280" y="63295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16301400">
            <a:off x="6821280" y="58752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 rot="12280800">
            <a:off x="7304400" y="5393160"/>
            <a:ext cx="28836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 rot="7297800">
            <a:off x="6847920" y="548136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 rot="396600">
            <a:off x="6914520" y="537948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83280" y="5645160"/>
            <a:ext cx="384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58160" y="51148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9397400">
            <a:off x="5608440" y="5442120"/>
            <a:ext cx="693720" cy="217440"/>
          </a:xfrm>
          <a:prstGeom prst="leftRightArrow">
            <a:avLst>
              <a:gd name="adj1" fmla="val 50000"/>
              <a:gd name="adj2" fmla="val 635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32000" y="2698920"/>
            <a:ext cx="576108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ОСМС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РСНС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 –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ЛС +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СНС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ссчитываемая статически неопределимая систе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С –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лишние 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сновные неизвест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79280" y="3225960"/>
            <a:ext cx="338472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екомендации по выб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ациональной ОСМ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262560" y="636912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356520" y="63277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15280" y="63691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508880" y="632772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88200" y="4437000"/>
            <a:ext cx="57600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64200" y="4149720"/>
            <a:ext cx="57636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40360" y="5011560"/>
            <a:ext cx="252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81760" y="44085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35680" y="50133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57880" y="5229360"/>
            <a:ext cx="252360" cy="72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62560" y="523080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392880" y="50245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50040" y="49816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54720" y="51879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12040" y="521820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16720" y="5219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47040" y="5013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04200" y="49705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08880" y="51768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929280" y="49752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87960" y="5013360"/>
            <a:ext cx="252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574040" y="5006880"/>
            <a:ext cx="21744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21200" y="486576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740720" y="4846680"/>
            <a:ext cx="43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00560" y="5800680"/>
            <a:ext cx="576360" cy="576360"/>
          </a:xfrm>
          <a:custGeom>
            <a:avLst/>
            <a:gdLst/>
            <a:ahLst/>
            <a:rect l="l" t="t" r="r" b="b"/>
            <a:pathLst>
              <a:path w="544" h="499">
                <a:moveTo>
                  <a:pt x="0" y="499"/>
                </a:moveTo>
                <a:lnTo>
                  <a:pt x="0" y="0"/>
                </a:lnTo>
                <a:lnTo>
                  <a:pt x="5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5513400"/>
            <a:ext cx="576000" cy="863640"/>
          </a:xfrm>
          <a:custGeom>
            <a:avLst/>
            <a:gdLst/>
            <a:ahLst/>
            <a:rect l="l" t="t" r="r" b="b"/>
            <a:pathLst>
              <a:path w="544" h="816">
                <a:moveTo>
                  <a:pt x="0" y="816"/>
                </a:moveTo>
                <a:lnTo>
                  <a:pt x="0" y="0"/>
                </a:lnTo>
                <a:lnTo>
                  <a:pt x="544" y="0"/>
                </a:lnTo>
                <a:lnTo>
                  <a:pt x="544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53080" y="6375240"/>
            <a:ext cx="25236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794120" y="577224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748040" y="6377040"/>
            <a:ext cx="2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172040" y="6380280"/>
            <a:ext cx="25236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76720" y="638172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68880" y="633888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42000" y="6337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265640" y="57722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418000" y="548496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 rot="16881000">
            <a:off x="4124160" y="5878080"/>
            <a:ext cx="288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 rot="12280800">
            <a:off x="4353120" y="5674320"/>
            <a:ext cx="28872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 rot="18004800">
            <a:off x="5290200" y="5590800"/>
            <a:ext cx="28836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32240" y="5869080"/>
            <a:ext cx="38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45040" y="5487840"/>
            <a:ext cx="4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Х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27640" y="6375240"/>
            <a:ext cx="25236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22960" y="63770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16560" y="63374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 rot="871200">
            <a:off x="5114880" y="5337000"/>
            <a:ext cx="288720" cy="2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74" y="1610"/>
                </a:moveTo>
                <a:arcTo wR="10800" hR="10800" stAng="-3498491" swAng="8452649"/>
                <a:lnTo>
                  <a:pt x="10800" y="10800"/>
                </a:lnTo>
                <a:close/>
              </a:path>
              <a:path fill="none" w="21600" h="21600">
                <a:moveTo>
                  <a:pt x="16474" y="1610"/>
                </a:moveTo>
                <a:arcTo wR="10800" hR="10800" stAng="-3498491" swAng="8452649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708520" y="51418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4" dur="indefinite" restart="never" nodeType="tmRoot">
          <p:childTnLst>
            <p:seq>
              <p:cTn id="1875" dur="indefinite" nodeType="mainSeq">
                <p:childTnLst>
                  <p:par>
                    <p:cTn id="1876" fill="hold">
                      <p:stCondLst>
                        <p:cond delay="0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3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22T12:15:33Z</dcterms:modified>
  <cp:revision>235</cp:revision>
  <dc:subject/>
  <dc:title>Слайд 1</dc:title>
</cp:coreProperties>
</file>